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F8B4-0A9F-4B08-B20B-74A1A36E2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B8A5-4A0C-4D92-BF93-32C90AE2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1D42-B378-4D24-AB0B-9D26D1FA3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F09D-8EA8-41A1-ACD2-4C8AE59EC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A500-DA50-48E7-B54A-D6276EFF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3FFF-836B-40A1-9958-63B927F6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EFD5-9773-4881-B3A6-841B0488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FE33-C540-4D6C-BB1F-3C82D248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7C7E-6DEA-4118-B6AB-214D7A15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59AB-37BE-4C25-AABE-B418E847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94E2-BEC3-4825-956B-8487568A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82B5-CC8E-4B0B-B094-CEDFF98B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34E1-9458-41B5-9956-9F5FE29149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b9899"/>
                </a:solidFill>
                <a:latin typeface="Calibri"/>
              </a:rPr>
              <a:t>Актовая лекц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Лекция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(далее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Л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) (от лат. lectio — чтение) систематическое, последовательное изложение учебного материала, какого-либо вопроса, темы, раздела, предмета, методов науки. Различают Л.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учебные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публичные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чебная Л. — одна из основных форм учебного процесса и один из основных методов преподавания в вуз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убличные Л. - эпизодические и цикловые — одна из основных форм пропаганды и распространения политических и научных знаний в системе культурно-просветительской работ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b9899"/>
                </a:solidFill>
                <a:latin typeface="Calibri"/>
              </a:rPr>
              <a:t>Актовая лекц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0920" y="1125360"/>
            <a:ext cx="85550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сторически сложилось так, что лекция, как правило, состоит из трех частей: вступления (введения), изложения и заключ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9200" indent="-259200"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ступление (введение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яет тему, план и цель лекции. Оно призвано заинтересовать и настроить аудиторию, сообщить, в чём заключается предмет лекции и её актуальность, основная идея (проблема, центральный вопрос). Введение должно быть кратким и целенаправленны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9200" indent="-259200"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зложе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— основная часть лекции, в которой реализуется научное содержание темы, ставятся все узловые вопросы, приводится вся система доказательств с использованием наиболее целесообразных методических приемов. В ходе изложения применяются все формы и способы суждения, аргументации и доказательства. Каждое теоретическое положение должно быть обосновано и доказано, приводимые формулировки и определения должны быть четкими, насыщенными глубоким содержанием. Все доказательства и разъяснения направлены на достижение поставленной цели, раскрытие основной идеи, содержания и научных выводов. Каждый учебный вопрос заканчивается краткими выводами, логически подводящими к следующему вопросу лек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9200" indent="-259200"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обобщает в кратких формулировках основные идеи лекции, логически завершая её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9200" indent="-259200"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обенности конкурсной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ктовой лек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94920" y="155736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ктуальные проблемы образования, педагоги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чему это проблема? (история проблемы, за и против, преодоление негатива, преимущества и значимость решения проблемы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еобходимо заинтересовать большую аудиторию (учащиеся, родители, учителя, методисты, администрация ОУ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е пересказывать проблему, а поделиться собственными представлениями, взглядами, убеждениями, возникшими в результате анализ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обенности конкурсной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ктовой лек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01320" y="2204640"/>
            <a:ext cx="8504280" cy="38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ыбрать реальную проблему, которую может решить учитель, ученик, методист, директор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еобходимо продемонстрировать современный подход к решению проблем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омиссию интересует кульминационный момент вашей воспитательной деятельности!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езентация (не более 7-8 слайдов) фиксирует тезис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971640" y="836640"/>
            <a:ext cx="756108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5968"/>
                </a:solidFill>
                <a:latin typeface="Arial Black"/>
                <a:ea typeface="Times New Roman"/>
              </a:rPr>
              <a:t>Требования к през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комбинация фона и цвета тек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текста – нем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форматирование – одинаков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шрифт </a:t>
            </a:r>
            <a:r>
              <a:rPr b="1" lang="en-US" sz="2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min 12 – max.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не более 7 объектов на 1 слай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последний слайд – положительные эмоции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b9899"/>
                </a:solidFill>
                <a:latin typeface="Calibri"/>
              </a:rPr>
              <a:t>Требования к лектор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4000" y="764640"/>
            <a:ext cx="85039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вободное владение тематическим и контекстным материалом выступ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тепень использования опорных материалов при чтении лекции (обращение к конспекту или тексту лекций, свободное владение материалом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нешний вид манера поведения, умение держаться перед аудиторие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нтакт с аудиторией (хороший, недостаточный, отсутствует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беждённос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Эмоциональность, манера чтения (живая, увлекательная, монотонная, скучная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ечевые данные, дик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ультура речи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авильная речь, соответствующая нормам язы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ечь, правильно интонированная, образн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ультура общения с аудиторией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оброжелатель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нтерес к ее запрос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тношение лектора  к слушателям (внимательное, в меру требовательное, равнодушное и т.п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b9899"/>
                </a:solidFill>
                <a:latin typeface="Calibri"/>
              </a:rPr>
              <a:t>Требования к лектор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1320" y="1988640"/>
            <a:ext cx="8504280" cy="41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скрываемый интерес к рассматриваемой проблем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идерские качества личност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веренность в себ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сутствие страха перед аудитори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ность убежд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мение защищать свою позиц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933c"/>
                </a:solidFill>
                <a:latin typeface="Calibri"/>
              </a:rPr>
              <a:t>Этапы (ступени) подготовк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9280" y="907560"/>
            <a:ext cx="878544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Анализ и отбор «ключевого», основного материала, который составляет логическое ядро курса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Выбор основных проблем и трансформация их в проблемные ситуации (опыт показывает, что таких проблем в лекции не должно быть больше 3-4)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Продумывание, определение логики и методики разрешения каждой проблемной ситуаци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 Компоновка всего лекционного содержания в целостную систему знаний и методического обеспечения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 «Проигрывание» лекции в слух или «про себя», прогнозирование успешности применения методических приемов, активизации внимания и мышления обучаемых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. Коррекция и окончательная подготовка содержания и методического арсенала лекции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8:48:22Z</dcterms:created>
  <dc:creator>sedova</dc:creator>
  <dc:description/>
  <dc:language>en-US</dc:language>
  <cp:lastModifiedBy>doronina</cp:lastModifiedBy>
  <dcterms:modified xsi:type="dcterms:W3CDTF">2011-12-14T10:55:35Z</dcterms:modified>
  <cp:revision>5</cp:revision>
  <dc:subject/>
  <dc:title>Актовая лекция </dc:title>
</cp:coreProperties>
</file>