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FEC-41C2-4AF9-80B6-0718155C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1EF-F864-456A-A3D6-C75D72E7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592B-942C-44DB-8B77-BC78B822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03A-C491-4824-9BF1-5A8A4147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DF9A-B08C-4ED1-B757-56587A1A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74F-7B66-424C-80B5-A4AD55A2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A25-6E50-4C18-A291-AF558AEB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C21-2901-4E90-8FFE-590F8504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F23-299E-40B8-919F-11247DAA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8700-9D54-4184-B824-8AD5D199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FA0-F559-4E04-B14B-CF7E59F3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EA1-AE7F-4284-B363-817A2999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452A-70CD-4F04-B1DA-D1507C84DF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Актовая лекц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Лекц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далее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Л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 (от лат. lectio — чтение) систематическое, последовательное изложение учебного материала, какого-либо вопроса, темы, раздела, предмета, методов науки. Различают Л.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учебны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убличны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ебная Л. — одна из основных форм учебного процесса и один из основных методов преподавания в вуз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убличные Л. - эпизодические и цикловые — одна из основных форм пропаганды и распространения политических и научных знаний в системе культурно-просветительской рабо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Актовая лекц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125360"/>
            <a:ext cx="85550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торически сложилось так, что лекция, как правило, состоит из трех частей: вступления (введения), изложения и заключ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тупление (введение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 тему, план и цель лекции. Оно призвано заинтересовать и настроить аудиторию, сообщить, в чём заключается предмет лекции и её актуальность, основная идея (проблема, центральный вопрос). Введение должно быть кратким и целенаправлен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лож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основная часть лекции, в которой реализуется научное содержание темы, ставятся все узловые вопросы, приводится вся система доказательств с использованием наиболее целесообразных методических приемов. В ходе изложения применяются все формы и способы суждения, аргументации и доказательства. Каждое теоретическое положение должно быть обосновано и доказано, приводимые формулировки и определения должны быть четкими, насыщенными глубоким содержанием. Все доказательства и разъяснения направлены на достижение поставленной цели, раскрытие основной идеи, содержания и научных выводов. Каждый учебный вопрос заканчивается краткими выводами, логически подводящими к следующему вопросу лек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общает в кратких формулировках основные идеи лекции, логически завершая её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обенности конкурсно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ктовой ле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4920" y="15573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ктуальные проблемы образования, педагог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чему это проблема? (история проблемы, за и против, преодоление негатива, преимущества и значимость решения проблем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 заинтересовать большую аудиторию (учащиеся, родители, учителя, методисты, администрация ОУ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 пересказывать проблему, а поделиться собственными представлениями, взглядами, убеждениями, возникшими в результате анали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обенности конкурсно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ктовой ле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1320" y="2204640"/>
            <a:ext cx="850428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брать реальную проблему, которую может решить учитель, ученик, методист, директор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 продемонстрировать современный подход к решению проблем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миссию интересует кульминационный момент вашей воспитательной деятельности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зентация (не более 7-8 слайдов) фиксирует тезис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971640" y="836640"/>
            <a:ext cx="756108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 Black"/>
                <a:ea typeface="Times New Roman"/>
              </a:rPr>
              <a:t>Требования к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комбинация фона и цвета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текста – нем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форматирование – одинак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шрифт </a:t>
            </a:r>
            <a:r>
              <a:rPr b="1" lang="en-US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min 12 – max.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не более 7 объектов на 1 слай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последний слайд – положительные эмоци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Требования к лекто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764640"/>
            <a:ext cx="85039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вободное владение тематическим и контекстным материалом выступ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использования опорных материалов при чтении лекции (обращение к конспекту или тексту лекций, свободное владение материало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ешний вид манера поведения, умение держаться перед аудитори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такт с аудиторией (хороший, недостаточный, отсутствует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беждён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моциональность, манера чтения (живая, увлекательная, монотонная, скучная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чевые данные, дик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ультура реч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ая речь, соответствующая нормам язы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чь, правильно интонированная, образ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ультура общения с аудиторие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брожела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ес к ее запрос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ношение лектора  к слушателям (внимательное, в меру требовательное, равнодушное и т.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Требования к лекто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1320" y="1988640"/>
            <a:ext cx="85042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крываемый интерес к рассматриваемой проблем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дерские качества лич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ренность в се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утствие страха перед аудитор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убежд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е защищать свою позиц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Этапы (ступени) подготов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907560"/>
            <a:ext cx="8785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нализ и отбор «ключевого», основного материала, который составляет логическое ядро курс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Выбор основных проблем и трансформация их в проблемные ситуации (опыт показывает, что таких проблем в лекции не должно быть больше 3-4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родумывание, определение логики и методики разрешения каждой проблемной ситуа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Компоновка всего лекционного содержания в целостную систему знаний и методического обеспечен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«Проигрывание» лекции в слух или «про себя», прогнозирование успешности применения методических приемов, активизации внимания и мышления обучаемых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Коррекция и окончательная подготовка содержания и методического арсенала лекци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8:48:22Z</dcterms:created>
  <dc:creator>sedova</dc:creator>
  <dc:description/>
  <dc:language>en-US</dc:language>
  <cp:lastModifiedBy>doronina</cp:lastModifiedBy>
  <dcterms:modified xsi:type="dcterms:W3CDTF">2011-12-14T10:55:35Z</dcterms:modified>
  <cp:revision>5</cp:revision>
  <dc:subject/>
  <dc:title>Актовая лекция </dc:title>
</cp:coreProperties>
</file>