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7E6-775F-4BD4-A972-9F9BEA84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D02-0B9A-45F1-8C63-560AB962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2FA-E336-4181-B5EE-92F44E0B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320-2599-4029-8A8B-F35CD3F0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F510-EA4B-4405-80F9-98A207AC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0B93-51CA-432F-A70A-19D1DA16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D564-B966-48B6-86DA-C9BDBB0E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B018-DA24-4AC8-8084-E55BB1E5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B984-997C-4AD7-B0A3-98BFCC1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DFE6-570F-4C9B-9D25-38D62C7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824B-9DC0-4CD5-ACB4-49259106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B87-D802-4C32-BE56-A695DB4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B2B1-0CE8-47A5-A44E-A9A5A1D4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29CE-55D2-4898-A314-F9E1CD64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6CBC-CA2A-48F6-8B72-9688175D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F883-5F61-458A-9F0E-F97EA4FD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3320-9A26-40E4-A2A8-3F6547AB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191-8968-4922-B3B6-33E6C2AE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56C-C754-4826-A3AD-594F9264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5A9-12B8-4629-ABEC-4A3A6387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694-BAE7-4D95-B064-308C8EA5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DD8-716B-4A0C-99B6-B5523B79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5EE-AE8C-4E04-9FAC-23F788F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904-93E4-42AB-9291-E52F40C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794E-58C4-4D48-AF48-1713B2648C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B8F1-8A15-40D3-BCD2-2A63D98719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задач на процен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ля самостоятельного реше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Предприятие изготовило за квартал 500 насосов, из которых 60% имели высшую категорию качества. Сколько насосов высшей категории качества изготовило предприяти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Масса медвежонка составляет 15% массы белого медведя. Найдите массу белого медведя, если масса медвежонка 120 к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задачи №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)   500 н составляют 10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н составляют 6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0 : х = 100 : 6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0 * 60 = х * 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= 500 * 60 : 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= 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300 насосов высшей катего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задачи №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 120 т составляют 1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т составляют  10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0 : х = 15 : 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0 * 100 = х * 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= 120 * 100 : 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= 8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800 тон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а №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) Платье стоит 2120 рублей. Скидка в день распродажи равна 35%. Сколько стоит платье со скидкой в день распродаж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120 руб составляют 10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руб составляют  3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120 : х = 100 : 35, х = 742руб- скид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120 – 742 = 1378 (руб) стоит плать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а №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Билет на междугородний автобус для взрослого стоит 260 рублей. Стоимость билета для ребенка до 10 лет составляет 30% от стоимости билета для взрослого. Группа состоит из 17 детей до 10 лет и 2-х взрослых. Сколько рублей стоят билеты на всю группу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60 руб составляют 100%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 руб составляют 3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60 : х = 100 : 30,    х = 78(руб) скид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60 – 78 = 182(руб) стоит билет на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82 * 17 + 260 * 2 = 3614 (руб) стоят биле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м = 100см,     1см = 1/100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ц = 100 кг,    1 кг = 1/100 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сотая часть любой величины или числа – процен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% = 1/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= 10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а №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Швейная фабрика выпустила 1200 костюмов. Из них 32% составляют костюмы нового фасона. Сколько костюмов нового фасона выпустила фабрик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0 костюмов составляют 10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йдем, сколько костюмов приходится на 1%, для эт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1200 : 100 = 12(к) на 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йдем, чему равны 32%. Для эт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12 * 32 = 384(к) нового фас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вет: 384 костю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ли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1200 : 100 * 32 = 384(к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а №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 контрольную работу по математике отметку «5» получили 12 учеников, что составляет 30% всех учеников. Сколько учеников в класс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знаем, чему равен 1% всех уче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 как 12 учеников составляют 30% всех учеников, 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12 : 30 = 0,4(ч) на 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знаем, чему равны 100% учащих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0,4 * 100 = 40(у) в класс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вет: 40 уче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ли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12 : 30 * 100 = 40(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 для самостоятельного реше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  На поле, площадь которого 620 га, работали хлопкоуборочные машины. За сутки они убрали 15% всего поля. Сколько гектаров хлопка убрали за сутк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20 : 100 * 15 = 93(га) убрали за сут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93 гекта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Ученик прочитал 138 страниц, что составляет 23% числа всех страниц в книге. Сколько страниц в книг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38 : 23 * 100 = 600(стр) в книг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: 600 страниц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задач с помощью пропорци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Пропорция – равенство двух отнош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пример: 3 : 4 = 6 : 8 или 3/4 = 6/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новное свойство пропорц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В верной пропорции произведение крайних членов равно произведению средних член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* 8 = 4 *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Для определения всхожести семян посеяли горох. Из 200 посеянных горошин взошло 170. Какой процент горошин дал всходы(процент всхожести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0 г составляют 10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70 г составляют х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 пропорцию: 200 : 170 = 100 : 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0 х = 170 * 100,   200 х = 17000, х = 17000 : 200, х = 8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: 8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Завод должен был за месяц по плану выплавить 980 т стали. Но план выполнили на 115%. Сколько тонн стали выплавил завод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80 т составляют 10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 т составляют 11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авляем пропорцию 980 : х = 100 : 1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80 * 115 = х * 100, х = 980 * 115 : 100, х = 11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вет: 1127 тон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3:40:59Z</dcterms:created>
  <dc:creator>Пользователь</dc:creator>
  <dc:description/>
  <dc:language>en-US</dc:language>
  <cp:lastModifiedBy>Пользователь</cp:lastModifiedBy>
  <dcterms:modified xsi:type="dcterms:W3CDTF">2013-01-08T13:41:05Z</dcterms:modified>
  <cp:revision>3</cp:revision>
  <dc:subject/>
  <dc:title>Решение задач на проценты</dc:title>
</cp:coreProperties>
</file>