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A05-B44E-4335-A026-AA01AF7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9FE-68CC-44DF-92C3-28048025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F82-9D4A-457B-8B61-FCB3E9BA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119-4E8F-41F1-BC58-DFA2CC88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F979-71C6-4894-B540-B0ACBCE1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8F3C-2BB6-4271-A635-FF09DEE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FDFE-D5FF-4B8B-9A19-DB50AB98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27EA-9B75-4F8A-A5F2-8512F6A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B46D-8B97-4271-BE83-56DB9FE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4C0-7DCE-4B62-B03C-7015498F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907-DBBC-4A80-9E37-9862949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CC8-0093-489E-BB46-6F2C3CA6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6FF-D45C-4AC3-AA39-F4D6517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AB02-DBBA-4963-9C6A-EF7F7C8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506C-8683-4F1E-83C7-5AECFB5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664-F6C3-475D-91CB-3A3894AB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14B-146A-4B10-A137-8DF5E9E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9F-F420-4614-A957-492A2A92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168-8FAD-43A8-8F1D-BA06674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56C-EBC1-49B5-9F66-C380518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534-8FA3-4CED-B0D7-C37A0D7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312-3C47-4A8E-A79E-D159051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EF6-7F83-457C-A472-FB990BF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8C0-C156-4D1B-9F61-525009E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FCF-1428-475F-A91C-30DC009C52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cars128x128_22"/>
          <p:cNvPicPr/>
          <p:nvPr/>
        </p:nvPicPr>
        <p:blipFill>
          <a:blip r:embed="rId2"/>
          <a:stretch/>
        </p:blipFill>
        <p:spPr>
          <a:xfrm>
            <a:off x="4357800" y="2000160"/>
            <a:ext cx="3898800" cy="300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F229-EEC3-4498-8819-D3F4239021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116000" y="5716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ПРЯМОЛИНЕЙНОГО РАВНОУСКОРЕННОГО ДВИЖЕНИЯ. ГРАФИК СКОР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2" descr="cars128x128_22"/>
          <p:cNvPicPr/>
          <p:nvPr/>
        </p:nvPicPr>
        <p:blipFill>
          <a:blip r:embed="rId1"/>
          <a:stretch/>
        </p:blipFill>
        <p:spPr>
          <a:xfrm>
            <a:off x="928800" y="2286000"/>
            <a:ext cx="37130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ars128x128_20"/>
          <p:cNvPicPr/>
          <p:nvPr/>
        </p:nvPicPr>
        <p:blipFill>
          <a:blip r:embed="rId2"/>
          <a:stretch/>
        </p:blipFill>
        <p:spPr>
          <a:xfrm>
            <a:off x="4143240" y="3643200"/>
            <a:ext cx="3214800" cy="284976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11EB-A96D-42A8-9C03-A8923C7EBFA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5"/>
          <p:cNvSpPr/>
          <p:nvPr/>
        </p:nvSpPr>
        <p:spPr>
          <a:xfrm flipV="1">
            <a:off x="2556000" y="620280"/>
            <a:ext cx="0" cy="604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1619280" y="42210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2411280" y="198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2411280" y="270828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2411280" y="6308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2411280" y="486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411280" y="558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291636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327672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399564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363528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471636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435600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507528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543564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771640" y="436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   2    3    4   5   6      7  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822492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787788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692360" y="270828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714680" y="328608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190800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90800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1907280" y="46530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907280" y="5373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1907280" y="602136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1402920" y="333360"/>
            <a:ext cx="110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/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2556000" y="198900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34"/>
          <p:cNvSpPr/>
          <p:nvPr/>
        </p:nvSpPr>
        <p:spPr>
          <a:xfrm flipV="1">
            <a:off x="2556000" y="1916280"/>
            <a:ext cx="1800000" cy="2304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5003640" y="1413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4656240" y="3860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5077440" y="59500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43"/>
          <p:cNvSpPr/>
          <p:nvPr/>
        </p:nvSpPr>
        <p:spPr>
          <a:xfrm flipV="1">
            <a:off x="4356000" y="1916280"/>
            <a:ext cx="0" cy="223344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579600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6156360" y="4076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2556000" y="2708280"/>
            <a:ext cx="3600360" cy="1512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2411280" y="119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49"/>
          <p:cNvSpPr/>
          <p:nvPr/>
        </p:nvSpPr>
        <p:spPr>
          <a:xfrm flipV="1">
            <a:off x="2556000" y="1125000"/>
            <a:ext cx="2232000" cy="23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4716360" y="1125000"/>
            <a:ext cx="0" cy="302436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51"/>
          <p:cNvSpPr/>
          <p:nvPr/>
        </p:nvSpPr>
        <p:spPr>
          <a:xfrm>
            <a:off x="2627280" y="1197000"/>
            <a:ext cx="223200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5285880"/>
            <a:ext cx="76150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ить: 1. Характер движения тел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2.Начальную скорость тел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3. Конечную скорость тел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4. Проекцию уско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4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8C6-4703-4538-A83C-7ACCD33A282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Прямоугольник 43"/>
          <p:cNvSpPr/>
          <p:nvPr/>
        </p:nvSpPr>
        <p:spPr>
          <a:xfrm>
            <a:off x="3286080" y="21420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а в группах (1гр. – черный график; 2гр. – зеленый график;  3гр. – красный график.). Представители групп  анализируют графики у  экра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6"/>
          <p:cNvSpPr/>
          <p:nvPr/>
        </p:nvSpPr>
        <p:spPr>
          <a:xfrm>
            <a:off x="250920" y="6597720"/>
            <a:ext cx="84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250920" y="2997360"/>
            <a:ext cx="84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50920" y="1197000"/>
            <a:ext cx="84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50920" y="4869000"/>
            <a:ext cx="84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826920" y="907920"/>
            <a:ext cx="0" cy="595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8317080" y="907920"/>
            <a:ext cx="0" cy="595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203640" y="907920"/>
            <a:ext cx="0" cy="595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796000" y="907920"/>
            <a:ext cx="0" cy="595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0" y="378936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0" y="184464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0" y="566100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1403280" y="76500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4067280" y="76500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6732720" y="765000"/>
            <a:ext cx="75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826920" y="126828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3203640" y="119700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26920" y="486900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796000" y="299736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203640" y="299736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826920" y="2997360"/>
            <a:ext cx="100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5796000" y="119700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5796000" y="486900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203640" y="486900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5219640" y="4581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2627280" y="4581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40720" y="2708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5219640" y="2708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2627280" y="2708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40720" y="4581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2627280" y="630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5219640" y="630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7740720" y="630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0"/>
          <p:cNvSpPr/>
          <p:nvPr/>
        </p:nvSpPr>
        <p:spPr>
          <a:xfrm flipV="1">
            <a:off x="104292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900000" y="26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2"/>
          <p:cNvSpPr/>
          <p:nvPr/>
        </p:nvSpPr>
        <p:spPr>
          <a:xfrm flipV="1">
            <a:off x="3419640" y="155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3276720" y="2637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5"/>
          <p:cNvSpPr/>
          <p:nvPr/>
        </p:nvSpPr>
        <p:spPr>
          <a:xfrm flipV="1">
            <a:off x="6012000" y="155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5867280" y="220500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47"/>
          <p:cNvSpPr/>
          <p:nvPr/>
        </p:nvSpPr>
        <p:spPr>
          <a:xfrm flipV="1">
            <a:off x="104292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900000" y="4581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49"/>
          <p:cNvSpPr/>
          <p:nvPr/>
        </p:nvSpPr>
        <p:spPr>
          <a:xfrm flipV="1">
            <a:off x="341964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3276720" y="4005360"/>
            <a:ext cx="2158920" cy="0"/>
          </a:xfrm>
          <a:prstGeom prst="line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51"/>
          <p:cNvSpPr/>
          <p:nvPr/>
        </p:nvSpPr>
        <p:spPr>
          <a:xfrm flipV="1">
            <a:off x="6012000" y="3357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5867280" y="3573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53"/>
          <p:cNvSpPr/>
          <p:nvPr/>
        </p:nvSpPr>
        <p:spPr>
          <a:xfrm flipV="1">
            <a:off x="1042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900000" y="5805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55"/>
          <p:cNvSpPr/>
          <p:nvPr/>
        </p:nvSpPr>
        <p:spPr>
          <a:xfrm flipV="1">
            <a:off x="341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56"/>
          <p:cNvSpPr/>
          <p:nvPr/>
        </p:nvSpPr>
        <p:spPr>
          <a:xfrm>
            <a:off x="3276720" y="551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57"/>
          <p:cNvSpPr/>
          <p:nvPr/>
        </p:nvSpPr>
        <p:spPr>
          <a:xfrm flipV="1">
            <a:off x="6012000" y="52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58"/>
          <p:cNvSpPr/>
          <p:nvPr/>
        </p:nvSpPr>
        <p:spPr>
          <a:xfrm>
            <a:off x="5940360" y="537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9"/>
          <p:cNvSpPr/>
          <p:nvPr/>
        </p:nvSpPr>
        <p:spPr>
          <a:xfrm flipV="1">
            <a:off x="1042920" y="1628280"/>
            <a:ext cx="1441440" cy="8636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60"/>
          <p:cNvSpPr/>
          <p:nvPr/>
        </p:nvSpPr>
        <p:spPr>
          <a:xfrm>
            <a:off x="3419640" y="2133720"/>
            <a:ext cx="18730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6012000" y="1700280"/>
            <a:ext cx="1439640" cy="936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1042920" y="3573360"/>
            <a:ext cx="1584360" cy="1008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3"/>
          <p:cNvSpPr/>
          <p:nvPr/>
        </p:nvSpPr>
        <p:spPr>
          <a:xfrm>
            <a:off x="3419640" y="4005360"/>
            <a:ext cx="17287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64"/>
          <p:cNvSpPr/>
          <p:nvPr/>
        </p:nvSpPr>
        <p:spPr>
          <a:xfrm>
            <a:off x="6012000" y="3573360"/>
            <a:ext cx="1512720" cy="935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65"/>
          <p:cNvSpPr/>
          <p:nvPr/>
        </p:nvSpPr>
        <p:spPr>
          <a:xfrm flipV="1">
            <a:off x="1042920" y="5373360"/>
            <a:ext cx="1441440" cy="9349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66"/>
          <p:cNvSpPr/>
          <p:nvPr/>
        </p:nvSpPr>
        <p:spPr>
          <a:xfrm>
            <a:off x="3419640" y="5950080"/>
            <a:ext cx="180000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67"/>
          <p:cNvSpPr/>
          <p:nvPr/>
        </p:nvSpPr>
        <p:spPr>
          <a:xfrm>
            <a:off x="6012000" y="5589720"/>
            <a:ext cx="1584360" cy="792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68"/>
          <p:cNvSpPr/>
          <p:nvPr/>
        </p:nvSpPr>
        <p:spPr>
          <a:xfrm>
            <a:off x="214200" y="214200"/>
            <a:ext cx="42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и работа в парах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провер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Номер слайда 6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61F-E0AB-4BFA-80FB-95AF654DE32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оугольник 63"/>
          <p:cNvSpPr/>
          <p:nvPr/>
        </p:nvSpPr>
        <p:spPr>
          <a:xfrm>
            <a:off x="4489920" y="21420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ВАРИАНТЫ ГРАФИ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50920" y="214200"/>
            <a:ext cx="864216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уравнение скорости о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го участка графи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характер движения тела на каждом участке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/Р.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провер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8"/>
          <p:cNvSpPr/>
          <p:nvPr/>
        </p:nvSpPr>
        <p:spPr>
          <a:xfrm flipV="1">
            <a:off x="1116000" y="141264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539640" y="436572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1116000" y="2060280"/>
            <a:ext cx="1224000" cy="2305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2340000" y="2060640"/>
            <a:ext cx="86364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3203640" y="2060640"/>
            <a:ext cx="863640" cy="4537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4067280" y="6597720"/>
            <a:ext cx="79200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0" y="141300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/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64328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75564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1042920" y="20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1042920" y="659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320364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234000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468360" y="1916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468360" y="638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28"/>
          <p:cNvSpPr/>
          <p:nvPr/>
        </p:nvSpPr>
        <p:spPr>
          <a:xfrm flipV="1">
            <a:off x="4067280" y="429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219564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305928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3492360" y="3933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3924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1979640" y="162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34"/>
          <p:cNvSpPr/>
          <p:nvPr/>
        </p:nvSpPr>
        <p:spPr>
          <a:xfrm>
            <a:off x="3203640" y="162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3059280" y="36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3492360" y="630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5003640" y="630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796000" y="170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5867280" y="2492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А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0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5867280" y="31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5867280" y="378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60-60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586728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-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CB8-166E-4760-BE81-393C59797E8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5"/>
          <p:cNvSpPr/>
          <p:nvPr/>
        </p:nvSpPr>
        <p:spPr>
          <a:xfrm>
            <a:off x="468360" y="4287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рисунке показаны тела, их начальные скорости и ускорения. Запишите уравнения скорости для каждого тела.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/Р.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Взаимопровер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395280" y="3862440"/>
            <a:ext cx="835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755640" y="37908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2411280" y="379080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3995640" y="379080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5796000" y="37908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Oval 13"/>
          <p:cNvSpPr/>
          <p:nvPr/>
        </p:nvSpPr>
        <p:spPr>
          <a:xfrm>
            <a:off x="7523280" y="37908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8099280" y="4078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395280" y="198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/с</a:t>
            </a:r>
            <a:r>
              <a:rPr b="0" lang="ru-RU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1906560" y="206208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/с</a:t>
            </a:r>
            <a:r>
              <a:rPr b="0" lang="ru-RU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564000" y="206208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/с</a:t>
            </a:r>
            <a:r>
              <a:rPr b="0" lang="ru-RU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5364000" y="2133720"/>
            <a:ext cx="100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/с</a:t>
            </a:r>
            <a:r>
              <a:rPr b="0" lang="ru-RU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7020000" y="213372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0м/с</a:t>
            </a:r>
            <a:r>
              <a:rPr b="0" lang="ru-RU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322200" y="2781360"/>
            <a:ext cx="115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=0 м/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1835280" y="2781360"/>
            <a:ext cx="115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=8 м/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3419640" y="2854440"/>
            <a:ext cx="115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=8 м/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7020000" y="2925720"/>
            <a:ext cx="115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=1 м/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219640" y="2925720"/>
            <a:ext cx="115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=8 м/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466560" y="2421000"/>
            <a:ext cx="792360" cy="0"/>
          </a:xfrm>
          <a:prstGeom prst="line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1979640" y="2421000"/>
            <a:ext cx="792000" cy="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27"/>
          <p:cNvSpPr/>
          <p:nvPr/>
        </p:nvSpPr>
        <p:spPr>
          <a:xfrm flipH="1">
            <a:off x="3634920" y="2421000"/>
            <a:ext cx="79236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28"/>
          <p:cNvSpPr/>
          <p:nvPr/>
        </p:nvSpPr>
        <p:spPr>
          <a:xfrm flipH="1">
            <a:off x="5363640" y="2494080"/>
            <a:ext cx="792360" cy="0"/>
          </a:xfrm>
          <a:prstGeom prst="line">
            <a:avLst/>
          </a:prstGeom>
          <a:ln w="93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29"/>
          <p:cNvSpPr/>
          <p:nvPr/>
        </p:nvSpPr>
        <p:spPr>
          <a:xfrm>
            <a:off x="7164360" y="3357720"/>
            <a:ext cx="792360" cy="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30"/>
          <p:cNvSpPr/>
          <p:nvPr/>
        </p:nvSpPr>
        <p:spPr>
          <a:xfrm flipH="1">
            <a:off x="5357520" y="3357720"/>
            <a:ext cx="863640" cy="0"/>
          </a:xfrm>
          <a:prstGeom prst="line">
            <a:avLst/>
          </a:prstGeom>
          <a:ln w="93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3564000" y="3357720"/>
            <a:ext cx="86364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1906560" y="3357720"/>
            <a:ext cx="865080" cy="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250920" y="422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250920" y="501336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1403280" y="6021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+2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2916360" y="508644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5003640" y="6094440"/>
            <a:ext cx="17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8-2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6948360" y="522936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Номер слайда 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5971-975E-46ED-BA1B-89FE2EA5227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1692360" y="2133720"/>
            <a:ext cx="70945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 ПРЯМОЛИНЕЙНОГО  РАВНОУСКОРЕННОГО ДВИЖЕНИЯ    ПРЕДСТАВЛЕН  ЛИНЕЙНОЙ ФУН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 ЕЁ  ЗАВИСИТ  ОТ  ЗНАЧЕНИЯ  НАЧАЛЬНОЙ СКОРОСТИ  И  УСКОРЕНИЯ  ТЕ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ВИДУ  ГРАФИКА  В  КООРДИНАТАХ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ЛЕГКО ОПРЕДЕЛИТЬ  ХАРАКТЕР  ДВИЖЕНИЯ  ТЕ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1403280" y="765000"/>
            <a:ext cx="21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9C54-C848-4ABC-971B-167E31A34A0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 итогов урок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счет баллов и выставление оцен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зависимости проекции скорости тела от времени имеет вид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+3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/с). Начертить график зависимости проекции скорости о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свойства линейной фун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CB14-D407-4BD2-A71C-0A796DE81A0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Тема урок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прямолинейного равноускоренного                    движения. График скорости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Цель урока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корости прямолинейного                 равноускорен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 чтение графиков скорости                               прямолинейного равноускорен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2077920" y="1928880"/>
            <a:ext cx="70812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143160" y="2357280"/>
            <a:ext cx="714600" cy="69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292640" y="2857680"/>
            <a:ext cx="649080" cy="62856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BBEE-9704-447C-B145-BC833C8F4A3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ка на оц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4880" y="272520"/>
            <a:ext cx="44719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балл  -  любая вер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  -  верная вер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  -  верная версия, ее обоснование и  озвучи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3714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59 и более баллов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52 – 58 балл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35 - 51 бал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7B0-2195-4D54-99B9-C122493353A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560" y="272880"/>
            <a:ext cx="5429160" cy="194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ы разные движенья изучали,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скорость, путь и время рассчитать, узнали .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перь попробуем мы знанья применить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задачи интересные реши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929200" y="1214280"/>
            <a:ext cx="2381400" cy="3729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4006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ьев нет, но эта птиц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тит и прилуни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-птица, алый хв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тела в стаю звезд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, как чудо с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 летит, отве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бы он тебя пове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е нужен овес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рми его бензи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пыта дай резин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поднявши пыл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и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4565-A2FD-4BFC-B868-2C34A46D0D5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7"/>
          <p:cNvSpPr/>
          <p:nvPr/>
        </p:nvSpPr>
        <p:spPr>
          <a:xfrm>
            <a:off x="5000760" y="3357720"/>
            <a:ext cx="2950920" cy="461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 flipV="1" rot="10800000">
            <a:off x="2428920" y="676080"/>
            <a:ext cx="521496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е дви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42920" y="3500280"/>
            <a:ext cx="3025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03640" y="3500280"/>
            <a:ext cx="295308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омер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143000" y="4429080"/>
            <a:ext cx="2781360" cy="642600"/>
          </a:xfrm>
          <a:prstGeom prst="rect">
            <a:avLst/>
          </a:prstGeom>
          <a:solidFill>
            <a:srgbClr val="dddddd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стоянным ускор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786280" y="4500720"/>
            <a:ext cx="3178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менным ускор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2"/>
          <p:cNvSpPr/>
          <p:nvPr/>
        </p:nvSpPr>
        <p:spPr>
          <a:xfrm flipH="1">
            <a:off x="2357280" y="1071720"/>
            <a:ext cx="24480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4714920" y="1071720"/>
            <a:ext cx="2143080" cy="107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3714840" y="4000680"/>
            <a:ext cx="281304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6516720" y="4005360"/>
            <a:ext cx="155556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оугольник 23"/>
          <p:cNvSpPr/>
          <p:nvPr/>
        </p:nvSpPr>
        <p:spPr>
          <a:xfrm>
            <a:off x="6072120" y="2143080"/>
            <a:ext cx="271476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олинейное дви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000080" y="2000160"/>
            <a:ext cx="3714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31"/>
          <p:cNvSpPr/>
          <p:nvPr/>
        </p:nvSpPr>
        <p:spPr>
          <a:xfrm>
            <a:off x="1428840" y="1857240"/>
            <a:ext cx="2643120" cy="642600"/>
          </a:xfrm>
          <a:prstGeom prst="rect">
            <a:avLst/>
          </a:prstGeom>
          <a:solidFill>
            <a:srgbClr val="dddddd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линейное дви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5" name="Прямая со стрелкой 19"/>
          <p:cNvCxnSpPr/>
          <p:nvPr/>
        </p:nvCxnSpPr>
        <p:spPr>
          <a:xfrm>
            <a:off x="3071880" y="2500200"/>
            <a:ext cx="3215520" cy="85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4"/>
          <p:cNvCxnSpPr/>
          <p:nvPr/>
        </p:nvCxnSpPr>
        <p:spPr>
          <a:xfrm flipH="1">
            <a:off x="2071440" y="2500200"/>
            <a:ext cx="10008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26"/>
          <p:cNvCxnSpPr/>
          <p:nvPr/>
        </p:nvCxnSpPr>
        <p:spPr>
          <a:xfrm>
            <a:off x="2571840" y="5143320"/>
            <a:ext cx="357264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Прямая со стрелкой 28"/>
          <p:cNvCxnSpPr>
            <a:stCxn id="106" idx="2"/>
          </p:cNvCxnSpPr>
          <p:nvPr/>
        </p:nvCxnSpPr>
        <p:spPr>
          <a:xfrm flipH="1">
            <a:off x="1499760" y="5075280"/>
            <a:ext cx="10339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31"/>
          <p:cNvSpPr/>
          <p:nvPr/>
        </p:nvSpPr>
        <p:spPr>
          <a:xfrm>
            <a:off x="4786200" y="5786280"/>
            <a:ext cx="285768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замедлен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32"/>
          <p:cNvSpPr/>
          <p:nvPr/>
        </p:nvSpPr>
        <p:spPr>
          <a:xfrm>
            <a:off x="785880" y="5929200"/>
            <a:ext cx="292896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ускорен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Номер слайда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C56-1774-42E1-AA68-EA251C5A1FD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28400" y="642960"/>
            <a:ext cx="8429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заимопровер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перечисленных величин являются векторными? (v, a, t, m, 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v, a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скорости в системе СИ…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\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тела в каждой конкретной точке траектории в соответствующий момент  времени называется…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гновен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линейное движение, при котором мгновенная скорость за любые равные промежутки времени изменяется одинаково , называется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ускоренн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я ускорения может быть…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ой,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трицательной и равной нул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раектория движения тела прямая линия, то движение называется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линейн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отоциклист начинает тормозить, как направлены его скорость и ускорени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направлена по направлению движения, а ускорение  направлено  против дви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втобус отходит от автовокзала, как направлены его скорость и ускорени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и ускорение направлены по направлению дви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4C1-14AB-4596-9197-A213658E552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7"/>
          <p:cNvSpPr/>
          <p:nvPr/>
        </p:nvSpPr>
        <p:spPr>
          <a:xfrm>
            <a:off x="6215040" y="3643200"/>
            <a:ext cx="5000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>
            <a:off x="6215040" y="3643200"/>
            <a:ext cx="35712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-285840"/>
            <a:ext cx="40719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39718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автомобиль Субару импреза разгоняется с места до 108 км/ч примерно за 3 секун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автомобиля является  равноускоренным . Его движение можно характеризовать ускорением, проекция которого положите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о ускорение автомобил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=10м\с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провер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5" descr="transpcarro7[1]"/>
          <p:cNvPicPr/>
          <p:nvPr/>
        </p:nvPicPr>
        <p:blipFill>
          <a:blip r:embed="rId1"/>
          <a:stretch/>
        </p:blipFill>
        <p:spPr>
          <a:xfrm>
            <a:off x="4143240" y="857160"/>
            <a:ext cx="4079880" cy="456732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58D-B434-4D4E-80FC-BD8173E84EF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5AAA-ACEE-4C7D-B40E-4877A8B496C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85840" y="3571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жно ли определить проекцию вектора  скорости автомобиля </a:t>
            </a:r>
            <a:br>
              <a:rPr sz="1800"/>
            </a:b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любой момент време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14200" y="171468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ираясь  на математические  законы, выводим  уравнение проекции вектора  скорости. Тем самым доказываем  верность выдвинутой  гипотезы.  Далее устанавливаем  линейный  характер  уравнения проекции скорости. Повторяем свойства линейной функции (см.ниже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0852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линейной функции:     y = k*x + b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торим ее свойств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k&gt;0, то функция возрастающая, угол наклона прямой к положительной полуоси ОХ – остры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k&lt;0, то функция убывающая, угол наклона прямой к положительной полуоси ОХ – тупо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b=0, то функция принимает вид y=k*x, которая называется прямая пропорциональность и ее график всегда проходит через начало координат. Поэтому для построения графика достаточно знать координаты одной точк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k=0, то функция принимает вид y=b, графиком которой является прямая, параллельная оси О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714240" y="600084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переходим к построению граф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4"/>
          <p:cNvSpPr/>
          <p:nvPr/>
        </p:nvSpPr>
        <p:spPr>
          <a:xfrm flipV="1">
            <a:off x="1143000" y="1071720"/>
            <a:ext cx="0" cy="554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928800" y="6072120"/>
            <a:ext cx="352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2"/>
          <p:cNvSpPr/>
          <p:nvPr/>
        </p:nvSpPr>
        <p:spPr>
          <a:xfrm flipV="1">
            <a:off x="1357200" y="1643040"/>
            <a:ext cx="3500640" cy="425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1071720" y="578628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7928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м/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851280" y="6308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,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436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68360" y="189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фик равноускоренного дви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928800" y="435780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1143000" y="1000080"/>
            <a:ext cx="3000240" cy="3610080"/>
          </a:xfrm>
          <a:prstGeom prst="line">
            <a:avLst/>
          </a:prstGeom>
          <a:ln w="9360">
            <a:solidFill>
              <a:srgbClr val="62f3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857160" y="228600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Прямая соединительная линия 27"/>
          <p:cNvSpPr/>
          <p:nvPr/>
        </p:nvSpPr>
        <p:spPr>
          <a:xfrm>
            <a:off x="1143000" y="2571840"/>
            <a:ext cx="2928960" cy="35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FDD-DC62-48E8-B45B-EA1F78BC726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57680" y="357192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928960" y="207180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857760" y="5929200"/>
            <a:ext cx="360360" cy="360360"/>
          </a:xfrm>
          <a:prstGeom prst="ellipse">
            <a:avLst/>
          </a:prstGeom>
          <a:solidFill>
            <a:srgbClr val="62f3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28:08Z</dcterms:created>
  <dc:creator>пользователь</dc:creator>
  <dc:description/>
  <dc:language>en-US</dc:language>
  <cp:lastModifiedBy>Пользователь</cp:lastModifiedBy>
  <dcterms:modified xsi:type="dcterms:W3CDTF">2013-01-22T07:55:35Z</dcterms:modified>
  <cp:revision>100</cp:revision>
  <dc:subject/>
  <dc:title>Слайд 1</dc:title>
</cp:coreProperties>
</file>