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4.gif" ContentType="image/gif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5AC-01D0-467C-B824-D3002A80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8A4-663B-4A1C-9B5E-0D5E2FD6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508-0736-4AFA-AEDC-83AB8577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05D-0838-4E64-9654-3B5E674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A33-33F3-4ABC-9F21-3A202A51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1B4-4DB2-4198-B715-A2A1931F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724-A329-462D-BE90-7ADB476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ACD-5C0A-430C-97A8-F2AA3072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136-11EA-486A-A516-0468847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C25-4134-4867-BBE3-A19500C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EC3-AFCE-4A6D-914C-3E0BEBA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AC5-517B-4110-BE72-B4855D5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F40-D955-4BB5-9D0B-58B432876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549360"/>
            <a:ext cx="666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___Масштаб___                           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3280" y="49417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6 клас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глобус 2"/>
          <p:cNvPicPr/>
          <p:nvPr/>
        </p:nvPicPr>
        <p:blipFill>
          <a:blip r:embed="rId5"/>
          <a:stretch/>
        </p:blipFill>
        <p:spPr>
          <a:xfrm>
            <a:off x="3059280" y="3068640"/>
            <a:ext cx="3093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85840" y="500040"/>
          <a:ext cx="8572320" cy="5862600"/>
        </p:xfrm>
        <a:graphic>
          <a:graphicData uri="http://schemas.openxmlformats.org/drawingml/2006/table">
            <a:tbl>
              <a:tblPr/>
              <a:tblGrid>
                <a:gridCol w="1928880"/>
                <a:gridCol w="2286000"/>
                <a:gridCol w="2000160"/>
                <a:gridCol w="2357280"/>
              </a:tblGrid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иды масштаб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а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записываетс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показыва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ля чего использу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менован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ы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енны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Линейный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"/>
          <p:cNvSpPr/>
          <p:nvPr/>
        </p:nvSpPr>
        <p:spPr>
          <a:xfrm>
            <a:off x="2143080" y="214308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ловами и числ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4643280" y="328464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о сколько раз уменьшается расстояние на кар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6877080" y="3573360"/>
            <a:ext cx="171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ля краткой запис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714760" y="3857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роб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4500720" y="2060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еличину масштаб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443640" y="18446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определения величины масштаб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2428920" y="5072040"/>
            <a:ext cx="185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лениями на ли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4429080" y="500076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Соответствующие делениям расстояния на местност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6858000" y="507204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измерения расстояний циркул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5840" y="571680"/>
          <a:ext cx="8572320" cy="5862600"/>
        </p:xfrm>
        <a:graphic>
          <a:graphicData uri="http://schemas.openxmlformats.org/drawingml/2006/table">
            <a:tbl>
              <a:tblPr/>
              <a:tblGrid>
                <a:gridCol w="1928880"/>
                <a:gridCol w="2286000"/>
                <a:gridCol w="2000160"/>
                <a:gridCol w="23572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иды масштаб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а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записываетс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показыва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ля чего использу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f2ac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менован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ы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енны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Линейный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bcde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3"/>
          <p:cNvSpPr/>
          <p:nvPr/>
        </p:nvSpPr>
        <p:spPr>
          <a:xfrm>
            <a:off x="2143080" y="221472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ловами и числ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4643280" y="3355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о сколько раз уменьшается расстояние на кар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6877080" y="3645000"/>
            <a:ext cx="171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ля краткой запис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2714760" y="39290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роб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4429080" y="2143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еличину масштаб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6443640" y="19162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определения величины масштаб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2428920" y="5143680"/>
            <a:ext cx="185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лениями на ли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429080" y="507204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Соответствующие делениям расстояния на местност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6858000" y="51436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измерения расстояний циркул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ести численный масштаб в  именова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500 000              1км=1000м=1000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500 000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см на карте  5 км на мес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500 000= в1см 5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10 000                           1м=1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 см  на карте100м на  мес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1000=в1см1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"/>
          <p:cNvSpPr/>
          <p:nvPr/>
        </p:nvSpPr>
        <p:spPr>
          <a:xfrm>
            <a:off x="1643040" y="2500200"/>
            <a:ext cx="1143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5"/>
          <p:cNvSpPr/>
          <p:nvPr/>
        </p:nvSpPr>
        <p:spPr>
          <a:xfrm>
            <a:off x="2071800" y="4286160"/>
            <a:ext cx="3571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4143240" y="1643040"/>
            <a:ext cx="4429440" cy="571680"/>
          </a:xfrm>
          <a:prstGeom prst="rect">
            <a:avLst/>
          </a:prstGeom>
          <a:noFill/>
          <a:ln w="60480">
            <a:solidFill>
              <a:srgbClr val="000000">
                <a:alpha val="9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5429160" y="4071960"/>
            <a:ext cx="2143080" cy="571320"/>
          </a:xfrm>
          <a:prstGeom prst="rect">
            <a:avLst/>
          </a:pr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ести  именованный  масштаб в  числ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см 5км= 1:500 000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см на карте  5 км на мес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см  100м=1:1000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 см  на карте100м на  мес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5072040" y="1785960"/>
            <a:ext cx="3643200" cy="57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км=1000м=100000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429240" y="378612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м=100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ереве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6000" y="1341000"/>
            <a:ext cx="85676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Численный масштаб в именованный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 : 2 0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 : 15 000 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Именованный масштаб в численны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1 см – 30 к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1 см – 500 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6443640" y="2060640"/>
            <a:ext cx="237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в 1 см –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0 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335640" y="2852640"/>
            <a:ext cx="2808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в 1 см –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50 к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804000" y="4292640"/>
            <a:ext cx="2000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1 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000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6732720" y="5229360"/>
            <a:ext cx="2000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1 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0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http://www.zavorovo.edusite.ru/images/geo1.gif"/>
          <p:cNvPicPr/>
          <p:nvPr/>
        </p:nvPicPr>
        <p:blipFill>
          <a:blip r:embed="rId1"/>
          <a:stretch/>
        </p:blipFill>
        <p:spPr>
          <a:xfrm>
            <a:off x="1643040" y="4214880"/>
            <a:ext cx="5713560" cy="235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сильнее  уменьшено  изображение на карте, тем мельч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ё  масштаб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85520" y="2928960"/>
            <a:ext cx="8001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:1000 или 1: 1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акой  масштаб  мельч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карта мира"/>
          <p:cNvPicPr/>
          <p:nvPr/>
        </p:nvPicPr>
        <p:blipFill>
          <a:blip r:embed="rId1"/>
          <a:stretch/>
        </p:blipFill>
        <p:spPr>
          <a:xfrm>
            <a:off x="250920" y="189000"/>
            <a:ext cx="4968720" cy="338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глобус"/>
          <p:cNvPicPr/>
          <p:nvPr/>
        </p:nvPicPr>
        <p:blipFill>
          <a:blip r:embed="rId2"/>
          <a:stretch/>
        </p:blipFill>
        <p:spPr>
          <a:xfrm>
            <a:off x="0" y="4332240"/>
            <a:ext cx="2070000" cy="252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Ряз обл"/>
          <p:cNvPicPr/>
          <p:nvPr/>
        </p:nvPicPr>
        <p:blipFill>
          <a:blip r:embed="rId3"/>
          <a:stretch/>
        </p:blipFill>
        <p:spPr>
          <a:xfrm>
            <a:off x="5143680" y="1857240"/>
            <a:ext cx="3714480" cy="3714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571680" y="35719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масштаб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4929120" y="564372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масштаб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03280" y="530280"/>
            <a:ext cx="8183520" cy="52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акой из масштабов крупн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5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932360" y="1989000"/>
            <a:ext cx="3168720" cy="1224000"/>
          </a:xfrm>
          <a:prstGeom prst="rect">
            <a:avLst/>
          </a:prstGeom>
          <a:solidFill>
            <a:srgbClr val="edd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Gothic"/>
              </a:rPr>
              <a:t>1 : 2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глобус"/>
          <p:cNvPicPr/>
          <p:nvPr/>
        </p:nvPicPr>
        <p:blipFill>
          <a:blip r:embed="rId1"/>
          <a:stretch/>
        </p:blipFill>
        <p:spPr>
          <a:xfrm>
            <a:off x="7093080" y="4508640"/>
            <a:ext cx="16556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 расстояний по карте 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99840"/>
            <a:ext cx="7615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№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 городами    Москва и  Астрах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 горой  Нaродная (Уральские горы) и горой  Белуха (горы Алта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рить  протяженность  р.  У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covers.cnt.itdelo.com/o/om/ome/omega3468420big.jpg"/>
          <p:cNvPicPr/>
          <p:nvPr/>
        </p:nvPicPr>
        <p:blipFill>
          <a:blip r:embed="rId1"/>
          <a:stretch/>
        </p:blipFill>
        <p:spPr>
          <a:xfrm>
            <a:off x="6643800" y="107172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497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§ 8  Дифференцированно  задания 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карте  Красноярского края определите  расстояние  от своего населенного пункта до краевого  центра – г.  Краснояр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http://worldgeo.ru/rmaps/reg24m.gif"/>
          <p:cNvPicPr/>
          <p:nvPr/>
        </p:nvPicPr>
        <p:blipFill>
          <a:blip r:embed="rId1"/>
          <a:stretch/>
        </p:blipFill>
        <p:spPr>
          <a:xfrm>
            <a:off x="5516640" y="1557360"/>
            <a:ext cx="2496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и з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 активную работу на    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Users\Admin\Desktop\globus.gif"/>
          <p:cNvPicPr/>
          <p:nvPr/>
        </p:nvPicPr>
        <p:blipFill>
          <a:blip r:embed="rId1"/>
          <a:stretch/>
        </p:blipFill>
        <p:spPr>
          <a:xfrm>
            <a:off x="3059280" y="3429000"/>
            <a:ext cx="2819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будем заниматься на уроке 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знакомим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понятием «масштаб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Узнаем :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нужен масшта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казывает масшта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иды масштаба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аучим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практически работать с масшт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540072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 по географ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лас  по географ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тка длиной  около 2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ь – изме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www.photo-dictionary.com/photofiles/list/620/4139ruler.jpg"/>
          <p:cNvPicPr/>
          <p:nvPr/>
        </p:nvPicPr>
        <p:blipFill>
          <a:blip r:embed="rId1"/>
          <a:stretch/>
        </p:blipFill>
        <p:spPr>
          <a:xfrm>
            <a:off x="6762600" y="2071800"/>
            <a:ext cx="214632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www.centrmag.ru/catalog/04_090211.jpg"/>
          <p:cNvPicPr/>
          <p:nvPr/>
        </p:nvPicPr>
        <p:blipFill>
          <a:blip r:embed="rId2"/>
          <a:stretch/>
        </p:blipFill>
        <p:spPr>
          <a:xfrm>
            <a:off x="5929200" y="407196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1835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глобус"/>
          <p:cNvPicPr/>
          <p:nvPr/>
        </p:nvPicPr>
        <p:blipFill>
          <a:blip r:embed="rId1"/>
          <a:stretch/>
        </p:blipFill>
        <p:spPr>
          <a:xfrm>
            <a:off x="7631280" y="5013360"/>
            <a:ext cx="151272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32480" y="412920"/>
            <a:ext cx="8481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сштаб –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это отношение длин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отрезка на карте или план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к его действительно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длине на местност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29760" y="4365720"/>
            <a:ext cx="78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сштаб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нем. Maßstab)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 переводе с немецко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  –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мерная палк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planet.ru/files/products/website/00003502.jpg"/>
          <p:cNvPicPr/>
          <p:nvPr/>
        </p:nvPicPr>
        <p:blipFill>
          <a:blip r:embed="rId2"/>
          <a:stretch/>
        </p:blipFill>
        <p:spPr>
          <a:xfrm>
            <a:off x="428760" y="4929120"/>
            <a:ext cx="1428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Виды масштаб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929120" y="264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95280" y="1700280"/>
            <a:ext cx="7632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и м е н о в а н н ы 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95280" y="3357720"/>
            <a:ext cx="7632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 и с л е н н ы 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68360" y="5084640"/>
            <a:ext cx="7632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л и н е й н ы 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глобус"/>
          <p:cNvPicPr/>
          <p:nvPr/>
        </p:nvPicPr>
        <p:blipFill>
          <a:blip r:embed="rId1"/>
          <a:stretch/>
        </p:blipFill>
        <p:spPr>
          <a:xfrm>
            <a:off x="8043840" y="5516640"/>
            <a:ext cx="1100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масшта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68_4_1"/>
          <p:cNvPicPr/>
          <p:nvPr/>
        </p:nvPicPr>
        <p:blipFill>
          <a:blip r:embed="rId1"/>
          <a:stretch/>
        </p:blipFill>
        <p:spPr>
          <a:xfrm>
            <a:off x="468360" y="76500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исленный масшта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 1: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, что в одном см на листе бумаги содержится 5000 см на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,  при составлении плана действительные расстояния между географическими объектами умень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500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ься таким масштабом не очень удобно, поэтому сантиметры переводят в ме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менованный масшта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11280" y="1844640"/>
            <a:ext cx="79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0см = 50 мет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 см – 5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менованный масштаб показывает какое расстояние на местности соответствует 1 см на пл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нейный масшта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оляет измерять расстояния на плане при помощи циркуля- измерителя или полоски бума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0:04:12Z</dcterms:created>
  <dc:creator>РоМаra</dc:creator>
  <dc:description/>
  <dc:language>en-US</dc:language>
  <cp:lastModifiedBy>Пользователь</cp:lastModifiedBy>
  <dcterms:modified xsi:type="dcterms:W3CDTF">2013-01-08T10:53:26Z</dcterms:modified>
  <cp:revision>79</cp:revision>
  <dc:subject/>
  <dc:title>Масштаб, 6 класс</dc:title>
</cp:coreProperties>
</file>