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7048-C434-4310-8EB5-C5A2A16AA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B3FF-19AD-4954-B422-F7A9B12B6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50FB-77BC-45E3-88ED-E02B3FFA4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9929-EF0D-436A-9A37-59FA5DC58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7898-5C4E-4F64-A81D-E9F9997F73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A9CB1-FB8F-47CD-B3D2-419C2BA6B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45B9D-3941-4122-87A4-B2B6DAF2A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E96E6-5725-4301-9B80-A090172FB7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7E975-8711-450E-8D87-1CF9859F0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1D073-A2BA-41DD-B1EB-F5D3DC5F83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DF75-19A8-4D07-8738-FFB1C7446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9D01-17F2-4436-89F6-685118C66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321CA-BFC5-436A-8D00-69A90070F8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724EF-C1B9-479B-A702-211A35C492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FE45D-E1CE-40CB-B73C-4A426D278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450F-BB8C-4816-B416-F7291E5D8E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78D3A-28A2-40D5-A999-055131ECDC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1A8-28C1-4D13-965C-36735FDEC4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F9C4-3957-4681-A1F7-02D96CE5C2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FBEA-B911-4171-96D1-7CD1E4FA55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308-D89A-42DC-975A-DF36A55A8D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A25-4268-4EA4-B6E3-222738667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9590-8E83-4E14-99C7-75243CA4B1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6B0A-1AFB-4256-9175-FCB33D894F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BE98-739E-454F-9EAF-509AAD83DE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3A8-8F13-4344-BCA8-DBB355F129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6A3A-126B-4B8F-8A02-2201BBAE0A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8CF-72BA-4FA8-97C7-9549431DBE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9FD-2B40-4442-9127-97BE5025A2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29E-13CF-4830-963C-546E5EC1BC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FC591-C5D7-4CAE-8EC8-DCADF8CC6F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5E9B0-B17C-4534-91D9-955A9B68B7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5A94F-4089-466B-A0FD-E1425B679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7778-F62B-4750-BFD6-DE01401A3D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06F7D-01BE-43A6-86C0-E0C620F044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7CB51-1D3E-4CAE-AEE9-9517E98A48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4B336-9FC3-4BE3-AE36-6A46A205AF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F47F4-96E1-42F1-A843-68A624495E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71E19-1248-4A65-BA97-C443B15F59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75AD3-DF2C-43F6-8B46-294321B4EB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9A07D-C638-46AA-B31D-1A1D39C014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64BA5-5C66-4FA7-88C7-CD1FB6F9CB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EFF20-1CE9-46C2-A206-EFC332BED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A1ED-7F61-46EA-809D-6A7DFA4A2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B7AE-83D3-4218-AD24-B0C26D573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A78B-A718-4F2E-80A3-73AE3F46A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643C-15AB-4B51-8B1A-5E255CECD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76DD-6DA9-46A5-85CB-149AB7BD3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ote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A4BB-DED2-4BD6-A8B5-4836E710565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3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EC77B43-8F1D-4B39-AA60-E5B721ABD065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B4CC27E-0FA4-461F-902F-268D8272D178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7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661E44-AD86-4764-9192-C777C8DB9E0F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vtoliteratura.ru/files/karty/RF%20197%20130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карта мира"/>
          <p:cNvPicPr/>
          <p:nvPr/>
        </p:nvPicPr>
        <p:blipFill>
          <a:blip r:embed="rId2"/>
          <a:stretch/>
        </p:blipFill>
        <p:spPr>
          <a:xfrm>
            <a:off x="250920" y="692280"/>
            <a:ext cx="84978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628640" y="1947960"/>
          <a:ext cx="5834160" cy="2104920"/>
        </p:xfrm>
        <a:graphic>
          <a:graphicData uri="http://schemas.openxmlformats.org/drawingml/2006/table">
            <a:tbl>
              <a:tblPr/>
              <a:tblGrid>
                <a:gridCol w="1584360"/>
                <a:gridCol w="2162160"/>
                <a:gridCol w="2087640"/>
              </a:tblGrid>
              <a:tr h="44856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зо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шта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с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к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37"/>
          <p:cNvSpPr/>
          <p:nvPr/>
        </p:nvSpPr>
        <p:spPr>
          <a:xfrm>
            <a:off x="710640" y="4273560"/>
            <a:ext cx="4187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км=2200000с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000=1: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0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0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395280" y="981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3366"/>
                </a:solidFill>
                <a:latin typeface="Monotype Corsiva"/>
              </a:rPr>
              <a:t>Задача №1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647640" y="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3366"/>
                </a:solidFill>
                <a:latin typeface="Monotype Corsiva"/>
              </a:rPr>
              <a:t>Задача №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йти длину соответствующего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отрезка на местности  (масштаб 1:1000000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4724280" cy="4098600"/>
          </a:xfrm>
          <a:prstGeom prst="rect">
            <a:avLst/>
          </a:prstGeom>
          <a:ln w="0">
            <a:noFill/>
          </a:ln>
        </p:spPr>
      </p:pic>
      <p:cxnSp>
        <p:nvCxnSpPr>
          <p:cNvPr id="263" name=""/>
          <p:cNvCxnSpPr/>
          <p:nvPr/>
        </p:nvCxnSpPr>
        <p:spPr>
          <a:xfrm>
            <a:off x="3059280" y="3860640"/>
            <a:ext cx="810000" cy="1953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9280" y="2781360"/>
            <a:ext cx="571680" cy="314280"/>
          </a:xfrm>
          <a:prstGeom prst="wedgeRectCallout">
            <a:avLst>
              <a:gd name="adj1" fmla="val -307444"/>
              <a:gd name="adj2" fmla="val 505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alibri"/>
              </a:rPr>
              <a:t>5,8 с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5419080" y="5832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:1000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6930360" y="5832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:1000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324000" y="69228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3366"/>
                </a:solidFill>
                <a:latin typeface="Monotype Corsiva"/>
              </a:rPr>
              <a:t>Задача №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7120" y="1844640"/>
          <a:ext cx="5484960" cy="2271600"/>
        </p:xfrm>
        <a:graphic>
          <a:graphicData uri="http://schemas.openxmlformats.org/drawingml/2006/table">
            <a:tbl>
              <a:tblPr/>
              <a:tblGrid>
                <a:gridCol w="1656000"/>
                <a:gridCol w="1866600"/>
                <a:gridCol w="1962360"/>
              </a:tblGrid>
              <a:tr h="50472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зо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шта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с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Text Box 41"/>
          <p:cNvSpPr/>
          <p:nvPr/>
        </p:nvSpPr>
        <p:spPr>
          <a:xfrm>
            <a:off x="324000" y="4724280"/>
            <a:ext cx="55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,8:х=1:1000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=1000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,8:1=5800000см=58к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600" spc="-1" strike="noStrike">
                <a:solidFill>
                  <a:srgbClr val="003366"/>
                </a:solidFill>
                <a:latin typeface="Calibri"/>
              </a:rPr>
              <a:t>Задача №3</a:t>
            </a:r>
            <a:br>
              <a:rPr sz="46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йти расстояние от Москвы до Красноярска, используя атлас (масштаб 1:20000000)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71640" y="1844640"/>
          <a:ext cx="6695640" cy="2160360"/>
        </p:xfrm>
        <a:graphic>
          <a:graphicData uri="http://schemas.openxmlformats.org/drawingml/2006/table">
            <a:tbl>
              <a:tblPr/>
              <a:tblGrid>
                <a:gridCol w="1910160"/>
                <a:gridCol w="2278080"/>
                <a:gridCol w="250740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трезо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асшта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р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,7 с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ест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0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87280" y="4365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2624040" y="3169080"/>
            <a:ext cx="38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16,7:х = 1:20000000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х = 16,7*20000000 = 334000000см = 3340км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4508640"/>
            <a:ext cx="66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16,7:х = 1:20000000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х = 16,7 * 20000000 = 334000000см = 3340км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Задача № 4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Вычислите площадь квартиры, если сторона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дной  клетки плана равна 1 см.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твет дайте в м²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826920" y="1990800"/>
            <a:ext cx="7058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ш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935000"/>
          <a:ext cx="8147160" cy="2302200"/>
        </p:xfrm>
        <a:graphic>
          <a:graphicData uri="http://schemas.openxmlformats.org/drawingml/2006/table">
            <a:tbl>
              <a:tblPr/>
              <a:tblGrid>
                <a:gridCol w="3898800"/>
                <a:gridCol w="4248360"/>
              </a:tblGrid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план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стнос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с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 см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27"/>
              <p:cNvSpPr txBox="1"/>
              <p:nvPr/>
            </p:nvSpPr>
            <p:spPr>
              <a:xfrm>
                <a:off x="1908000" y="3182760"/>
                <a:ext cx="719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0"/>
              <p:cNvSpPr txBox="1"/>
              <p:nvPr/>
            </p:nvSpPr>
            <p:spPr>
              <a:xfrm>
                <a:off x="5940360" y="3349800"/>
                <a:ext cx="1224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1"/>
              <p:cNvSpPr txBox="1"/>
              <p:nvPr/>
            </p:nvSpPr>
            <p:spPr>
              <a:xfrm>
                <a:off x="1835280" y="3716280"/>
                <a:ext cx="100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2"/>
              <p:cNvSpPr txBox="1"/>
              <p:nvPr/>
            </p:nvSpPr>
            <p:spPr>
              <a:xfrm>
                <a:off x="5867280" y="3789360"/>
                <a:ext cx="1368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3"/>
              <p:cNvSpPr txBox="1"/>
              <p:nvPr/>
            </p:nvSpPr>
            <p:spPr>
              <a:xfrm>
                <a:off x="777960" y="4711680"/>
                <a:ext cx="72993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Monotype Corsiva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93560">
              <a:lnSpc>
                <a:spcPct val="10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. 23  чит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чертить план своей комнаты вместе с мебелью в масштабе 1:100, предварительно сделав все вычисления в тетрад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Monotype Corsiva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Н.З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Придумайте с помощью родителей задачи на применение масштаба  в других областях знаний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574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000" spc="-1" strike="noStrike">
                <a:solidFill>
                  <a:srgbClr val="4c71d8"/>
                </a:solidFill>
                <a:latin typeface="Calibri"/>
              </a:rPr>
              <a:t>Об умном человеке говорят:</a:t>
            </a:r>
            <a:br>
              <a:rPr sz="5000"/>
            </a:br>
            <a:r>
              <a:rPr b="0" lang="ru-RU" sz="5000" spc="-1" strike="noStrike">
                <a:solidFill>
                  <a:srgbClr val="4c71d8"/>
                </a:solidFill>
                <a:latin typeface="Calibri"/>
              </a:rPr>
              <a:t> «масштабно мыслит».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4c71d8"/>
                </a:solidFill>
                <a:latin typeface="Calibri"/>
              </a:rPr>
              <a:t> </a:t>
            </a:r>
            <a:br>
              <a:rPr sz="5000"/>
            </a:br>
            <a:r>
              <a:rPr b="0" lang="ru-RU" sz="5000" spc="-1" strike="noStrike">
                <a:solidFill>
                  <a:srgbClr val="4c71d8"/>
                </a:solidFill>
                <a:latin typeface="Calibri"/>
              </a:rPr>
              <a:t>Будем этому учиться!</a:t>
            </a:r>
            <a:r>
              <a:rPr b="0" lang="ru-RU" sz="5000" spc="-1" strike="noStrike">
                <a:solidFill>
                  <a:srgbClr val="3fbde5"/>
                </a:solidFill>
                <a:latin typeface="Calibri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27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68360" y="2492280"/>
            <a:ext cx="48801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Rectangle 3" descr="Картинка 53 из 125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83516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2"/>
          <p:cNvSpPr/>
          <p:nvPr/>
        </p:nvSpPr>
        <p:spPr>
          <a:xfrm>
            <a:off x="3527280" y="2924280"/>
            <a:ext cx="5616720" cy="3933720"/>
          </a:xfrm>
          <a:custGeom>
            <a:avLst/>
            <a:gdLst/>
            <a:ahLst/>
            <a:rect l="l" t="t" r="r" b="b"/>
            <a:pathLst>
              <a:path w="5616624" h="3933056">
                <a:moveTo>
                  <a:pt x="0" y="1966528"/>
                </a:moveTo>
                <a:lnTo>
                  <a:pt x="2808312" y="0"/>
                </a:lnTo>
                <a:lnTo>
                  <a:pt x="5616624" y="0"/>
                </a:lnTo>
                <a:lnTo>
                  <a:pt x="0" y="3933056"/>
                </a:lnTo>
                <a:lnTo>
                  <a:pt x="0" y="1966528"/>
                </a:lnTo>
                <a:close/>
              </a:path>
            </a:pathLst>
          </a:custGeom>
          <a:solidFill>
            <a:srgbClr val="8c8c8c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236000" y="4221000"/>
            <a:ext cx="185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Freeform 4"/>
          <p:cNvSpPr/>
          <p:nvPr/>
        </p:nvSpPr>
        <p:spPr>
          <a:xfrm>
            <a:off x="3527280" y="260280"/>
            <a:ext cx="2492640" cy="1800360"/>
          </a:xfrm>
          <a:custGeom>
            <a:avLst/>
            <a:gdLst/>
            <a:ahLst/>
            <a:rect l="l" t="t" r="r" b="b"/>
            <a:pathLst>
              <a:path w="2492152" h="1800200">
                <a:moveTo>
                  <a:pt x="0" y="900100"/>
                </a:moveTo>
                <a:lnTo>
                  <a:pt x="1246076" y="0"/>
                </a:lnTo>
                <a:lnTo>
                  <a:pt x="2492152" y="0"/>
                </a:lnTo>
                <a:lnTo>
                  <a:pt x="0" y="1800200"/>
                </a:lnTo>
                <a:lnTo>
                  <a:pt x="0" y="900100"/>
                </a:lnTo>
                <a:close/>
              </a:path>
            </a:pathLst>
          </a:custGeom>
          <a:solidFill>
            <a:srgbClr val="8c8c8c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527280" y="1160640"/>
            <a:ext cx="1800" cy="56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773600" y="260280"/>
            <a:ext cx="156204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019920" y="260280"/>
            <a:ext cx="312084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 rot="19500000">
            <a:off x="2940480" y="399492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68222"/>
                </a:solidFill>
                <a:latin typeface="Monotype Corsiva"/>
              </a:rPr>
              <a:t>Масштаб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9"/>
          <p:cNvSpPr/>
          <p:nvPr/>
        </p:nvSpPr>
        <p:spPr>
          <a:xfrm rot="19500000">
            <a:off x="2993040" y="397908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Monotype Corsiva"/>
              </a:rPr>
              <a:t>Масштаб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9440" cy="21891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a392a"/>
                </a:solidFill>
                <a:latin typeface="Arial"/>
              </a:rPr>
              <a:t>1. Что такое отношение? (Частное двух чисел)</a:t>
            </a:r>
            <a:br>
              <a:rPr sz="2800"/>
            </a:br>
            <a:r>
              <a:rPr b="1" lang="ru-RU" sz="2800" spc="-1" strike="noStrike">
                <a:solidFill>
                  <a:srgbClr val="fa392a"/>
                </a:solidFill>
                <a:latin typeface="Arial"/>
              </a:rPr>
              <a:t>Найдите отношение: чисел 8 и 2; 1 и 10;</a:t>
            </a:r>
            <a:br>
              <a:rPr sz="2800"/>
            </a:br>
            <a:r>
              <a:rPr b="1" lang="ru-RU" sz="2800" spc="-1" strike="noStrike">
                <a:solidFill>
                  <a:srgbClr val="fa392a"/>
                </a:solidFill>
                <a:latin typeface="Arial"/>
              </a:rPr>
              <a:t>величин 2см и 4см; 3см и 6 м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HiddenControl1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8351640" cy="384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Rectangle 4"/>
          <p:cNvGraphicFramePr/>
          <p:nvPr/>
        </p:nvGraphicFramePr>
        <p:xfrm>
          <a:off x="395280" y="1484280"/>
          <a:ext cx="124452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Rectangl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484280"/>
                    <a:ext cx="124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Rectangle 4"/>
          <p:cNvGraphicFramePr/>
          <p:nvPr/>
        </p:nvGraphicFramePr>
        <p:xfrm>
          <a:off x="2484360" y="1484280"/>
          <a:ext cx="1244520" cy="92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Rectangle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1484280"/>
                    <a:ext cx="124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Rectangle 4"/>
          <p:cNvGraphicFramePr/>
          <p:nvPr/>
        </p:nvGraphicFramePr>
        <p:xfrm>
          <a:off x="4788000" y="1484280"/>
          <a:ext cx="1244520" cy="92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Rectangle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1484280"/>
                    <a:ext cx="124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877080" y="1341360"/>
          <a:ext cx="84132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1341360"/>
                    <a:ext cx="841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995480" y="3276720"/>
            <a:ext cx="515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2.</a:t>
            </a: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Что такое пропорция? (Равенство двух отношений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-205560" y="2490480"/>
            <a:ext cx="8558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68ae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пропорция? (Равенство двух отношений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3 = 10:15</a:t>
            </a:r>
            <a:br>
              <a:rPr sz="2400"/>
            </a:br>
            <a:r>
              <a:rPr b="1" lang="ru-RU" sz="1400" spc="-1" strike="noStrike">
                <a:solidFill>
                  <a:srgbClr val="ffffff"/>
                </a:solidFill>
                <a:latin typeface="Microsoft Sans Serif"/>
              </a:rPr>
              <a:t>Сформулируйте основное свойство пропорции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Microsoft Sans Serif"/>
              </a:rPr>
              <a:t>(В верной пропорции произведение крайних членов равно произведению средних.)</a:t>
            </a:r>
            <a:r>
              <a:rPr b="0" lang="ru-RU" sz="1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214920" y="3319560"/>
            <a:ext cx="90748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fa392a"/>
                </a:solidFill>
                <a:latin typeface="Times New Roman"/>
                <a:ea typeface="Calibri"/>
              </a:rPr>
              <a:t>Сформулируйте основное свойство пропорции.</a:t>
            </a:r>
            <a:br>
              <a:rPr sz="2400"/>
            </a:br>
            <a:r>
              <a:rPr b="0" lang="ru-RU" sz="2400" spc="-1" strike="noStrike">
                <a:solidFill>
                  <a:srgbClr val="fa392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a392a"/>
                </a:solidFill>
                <a:latin typeface="Times New Roman"/>
              </a:rPr>
              <a:t>(В верной пропорции произведение крайних членов </a:t>
            </a:r>
            <a:br>
              <a:rPr sz="2400"/>
            </a:br>
            <a:r>
              <a:rPr b="1" lang="ru-RU" sz="2400" spc="-1" strike="noStrike">
                <a:solidFill>
                  <a:srgbClr val="fa392a"/>
                </a:solidFill>
                <a:latin typeface="Times New Roman"/>
              </a:rPr>
              <a:t>равно произведению средних.)</a:t>
            </a:r>
            <a:r>
              <a:rPr b="0" lang="ru-RU" sz="1400" spc="-1" strike="noStrike">
                <a:solidFill>
                  <a:srgbClr val="fa392a"/>
                </a:solidFill>
                <a:latin typeface="Microsoft Sans Serif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a392a"/>
                </a:solidFill>
                <a:latin typeface="Microsoft Sans Serif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найти неизвестный член пропорци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найти неизвестный край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редний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 пропор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ужно перемножить сред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край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ы пропорц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результат разделить на известный край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редний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лен.)</a:t>
            </a:r>
            <a:r>
              <a:rPr b="0" lang="ru-RU" sz="2400" spc="-1" strike="noStrike">
                <a:solidFill>
                  <a:srgbClr val="fa392a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мер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6 : 48 = х : 24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 = 36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24 : 48 = 1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535200" cy="26640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sp>
        <p:nvSpPr>
          <p:cNvPr id="224" name="Rectangle 2"/>
          <p:cNvSpPr/>
          <p:nvPr/>
        </p:nvSpPr>
        <p:spPr>
          <a:xfrm>
            <a:off x="4500720" y="3357720"/>
            <a:ext cx="4392360" cy="32400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076720" y="6165720"/>
            <a:ext cx="345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076720" y="5084640"/>
            <a:ext cx="180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8532720" y="5084640"/>
            <a:ext cx="180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6696000" y="3645000"/>
            <a:ext cx="180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696000" y="3645000"/>
            <a:ext cx="183672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5073480" y="3645000"/>
            <a:ext cx="162576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076720" y="5084640"/>
            <a:ext cx="345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394160" y="614520"/>
            <a:ext cx="442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376092"/>
                </a:solidFill>
                <a:latin typeface="Monotype Corsiva"/>
              </a:rPr>
              <a:t>Реальные размеры дом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63440" y="3192480"/>
            <a:ext cx="43372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Расчет размеров для чертежа: уменьшим все в 100 раз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6:100=0,06м=6с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та без крыши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:100=0,02м=2с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та с крышей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5:100=0,05м=5с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1028880" y="1195560"/>
            <a:ext cx="7845120" cy="1950840"/>
            <a:chOff x="1028880" y="1195560"/>
            <a:chExt cx="7845120" cy="1950840"/>
          </a:xfrm>
        </p:grpSpPr>
        <p:sp>
          <p:nvSpPr>
            <p:cNvPr id="235" name="Line 13"/>
            <p:cNvSpPr/>
            <p:nvPr/>
          </p:nvSpPr>
          <p:spPr>
            <a:xfrm>
              <a:off x="1028880" y="2536920"/>
              <a:ext cx="24462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36" name="Picture 14" descr=""/>
            <p:cNvPicPr/>
            <p:nvPr/>
          </p:nvPicPr>
          <p:blipFill>
            <a:blip r:embed="rId3"/>
            <a:stretch/>
          </p:blipFill>
          <p:spPr>
            <a:xfrm>
              <a:off x="1814400" y="2428920"/>
              <a:ext cx="9111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15"/>
            <p:cNvSpPr/>
            <p:nvPr/>
          </p:nvSpPr>
          <p:spPr>
            <a:xfrm>
              <a:off x="4305240" y="1195560"/>
              <a:ext cx="45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- </a:t>
              </a:r>
              <a:r>
                <a:rPr b="0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6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8" name="Group 16"/>
          <p:cNvGrpSpPr/>
          <p:nvPr/>
        </p:nvGrpSpPr>
        <p:grpSpPr>
          <a:xfrm>
            <a:off x="3348000" y="1658880"/>
            <a:ext cx="5541840" cy="978120"/>
            <a:chOff x="3348000" y="1658880"/>
            <a:chExt cx="5541840" cy="978120"/>
          </a:xfrm>
        </p:grpSpPr>
        <p:sp>
          <p:nvSpPr>
            <p:cNvPr id="239" name="Line 17"/>
            <p:cNvSpPr/>
            <p:nvPr/>
          </p:nvSpPr>
          <p:spPr>
            <a:xfrm>
              <a:off x="3476520" y="1947960"/>
              <a:ext cx="0" cy="5634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40" name="Picture 18" descr=""/>
            <p:cNvPicPr/>
            <p:nvPr/>
          </p:nvPicPr>
          <p:blipFill>
            <a:blip r:embed="rId4"/>
            <a:stretch/>
          </p:blipFill>
          <p:spPr>
            <a:xfrm>
              <a:off x="3348000" y="1968480"/>
              <a:ext cx="90972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19"/>
            <p:cNvSpPr/>
            <p:nvPr/>
          </p:nvSpPr>
          <p:spPr>
            <a:xfrm>
              <a:off x="4325760" y="1658880"/>
              <a:ext cx="45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ота без крыши – </a:t>
              </a:r>
              <a:r>
                <a:rPr b="0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2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2" name="Group 20"/>
          <p:cNvGrpSpPr/>
          <p:nvPr/>
        </p:nvGrpSpPr>
        <p:grpSpPr>
          <a:xfrm>
            <a:off x="2114640" y="582480"/>
            <a:ext cx="5640840" cy="1976400"/>
            <a:chOff x="2114640" y="582480"/>
            <a:chExt cx="5640840" cy="1976400"/>
          </a:xfrm>
        </p:grpSpPr>
        <p:sp>
          <p:nvSpPr>
            <p:cNvPr id="243" name="Line 21"/>
            <p:cNvSpPr/>
            <p:nvPr/>
          </p:nvSpPr>
          <p:spPr>
            <a:xfrm>
              <a:off x="2114640" y="582480"/>
              <a:ext cx="0" cy="19764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44" name="Picture 22" descr=""/>
            <p:cNvPicPr/>
            <p:nvPr/>
          </p:nvPicPr>
          <p:blipFill>
            <a:blip r:embed="rId5"/>
            <a:stretch/>
          </p:blipFill>
          <p:spPr>
            <a:xfrm>
              <a:off x="2123640" y="1292400"/>
              <a:ext cx="901440" cy="80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23"/>
            <p:cNvSpPr/>
            <p:nvPr/>
          </p:nvSpPr>
          <p:spPr>
            <a:xfrm>
              <a:off x="4372920" y="2052720"/>
              <a:ext cx="33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ота с крышей – </a:t>
              </a:r>
              <a:r>
                <a:rPr b="0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5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6" name="Text Box 24"/>
          <p:cNvSpPr/>
          <p:nvPr/>
        </p:nvSpPr>
        <p:spPr>
          <a:xfrm>
            <a:off x="237960" y="3781440"/>
            <a:ext cx="379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см соответствует 1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м=100см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см:100с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:1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Monotype Corsiva"/>
              </a:rPr>
              <a:t>Масштаб-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отношение длины отрезка на  </a:t>
            </a:r>
            <a:r>
              <a:rPr b="0" lang="ru-RU" sz="4000" spc="-1" strike="noStrike">
                <a:solidFill>
                  <a:srgbClr val="10253f"/>
                </a:solidFill>
                <a:latin typeface="Microsoft YaHei"/>
              </a:rPr>
              <a:t>схеме </a:t>
            </a: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к длине </a:t>
            </a:r>
            <a:r>
              <a:rPr b="0" lang="ru-RU" sz="4000" spc="-1" strike="noStrike">
                <a:solidFill>
                  <a:srgbClr val="10253f"/>
                </a:solidFill>
                <a:latin typeface="Microsoft YaHei"/>
              </a:rPr>
              <a:t>с</a:t>
            </a: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оответствующего отрезка   </a:t>
            </a:r>
            <a:r>
              <a:rPr b="0" lang="ru-RU" sz="4000" spc="-1" strike="noStrike">
                <a:solidFill>
                  <a:srgbClr val="10253f"/>
                </a:solidFill>
                <a:latin typeface="Microsoft YaHei"/>
              </a:rPr>
              <a:t>в реальности</a:t>
            </a: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457200" y="3933720"/>
            <a:ext cx="8686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1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отношение длины отрезка на  </a:t>
            </a:r>
            <a:r>
              <a:rPr b="0" lang="ru-RU" sz="4000" spc="-1" strike="noStrike">
                <a:solidFill>
                  <a:srgbClr val="10253f"/>
                </a:solidFill>
                <a:latin typeface="Microsoft YaHei"/>
              </a:rPr>
              <a:t>карте </a:t>
            </a: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к длине </a:t>
            </a:r>
            <a:r>
              <a:rPr b="0" lang="ru-RU" sz="4000" spc="-1" strike="noStrike">
                <a:solidFill>
                  <a:srgbClr val="10253f"/>
                </a:solidFill>
                <a:latin typeface="Microsoft YaHei"/>
              </a:rPr>
              <a:t>с</a:t>
            </a: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оответствующего отрезка   </a:t>
            </a:r>
            <a:r>
              <a:rPr b="0" lang="ru-RU" sz="4000" spc="-1" strike="noStrike">
                <a:solidFill>
                  <a:srgbClr val="10253f"/>
                </a:solidFill>
                <a:latin typeface="Microsoft YaHei"/>
              </a:rPr>
              <a:t>на местности</a:t>
            </a:r>
            <a:r>
              <a:rPr b="0" lang="ru-RU" sz="4000" spc="-1" strike="noStrike">
                <a:solidFill>
                  <a:srgbClr val="10253f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609300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6022800" y="3578400"/>
            <a:ext cx="2868840" cy="29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5564160" y="536400"/>
            <a:ext cx="3327480" cy="237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3" name="Picture 3" descr=""/>
          <p:cNvPicPr/>
          <p:nvPr/>
        </p:nvPicPr>
        <p:blipFill>
          <a:blip r:embed="rId4"/>
          <a:stretch/>
        </p:blipFill>
        <p:spPr>
          <a:xfrm>
            <a:off x="549360" y="3578400"/>
            <a:ext cx="2894040" cy="305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4" name="Picture 4" descr=""/>
          <p:cNvPicPr/>
          <p:nvPr/>
        </p:nvPicPr>
        <p:blipFill>
          <a:blip r:embed="rId5"/>
          <a:stretch/>
        </p:blipFill>
        <p:spPr>
          <a:xfrm>
            <a:off x="372960" y="388800"/>
            <a:ext cx="3245040" cy="2532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2912400" y="2781360"/>
            <a:ext cx="41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06686d"/>
                </a:solidFill>
                <a:latin typeface="Monotype Corsiva"/>
              </a:rPr>
              <a:t>Масштаб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395280" y="981000"/>
            <a:ext cx="8209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003366"/>
                </a:solidFill>
                <a:latin typeface="Monotype Corsiva"/>
              </a:rPr>
              <a:t>Задача №1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Расстояние между селами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рбейское и Усть-Яруль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на карте равн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см. Найти масштаб карты, если расстояние на местности равн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км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539640" y="2852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0:51:25Z</dcterms:created>
  <dc:creator>Ирина</dc:creator>
  <dc:description/>
  <dc:language>en-US</dc:language>
  <cp:lastModifiedBy>Пользователь</cp:lastModifiedBy>
  <dcterms:modified xsi:type="dcterms:W3CDTF">2013-01-22T07:53:53Z</dcterms:modified>
  <cp:revision>66</cp:revision>
  <dc:subject/>
  <dc:title>Масштаб</dc:title>
</cp:coreProperties>
</file>