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AFD-1EAC-4621-8B2C-D700B60F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E65-057D-4A33-98A7-36B99D53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5DC-6A4C-46FF-A298-C727B6E5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24A-753C-4383-A06C-47DCF74C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434-E3AA-4188-9C96-B1976D8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638-6806-4C15-B186-0EDE737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D99-7F3B-40D8-8881-B967488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1D7-048D-4B6A-8B7B-A14B6725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52B-74EC-4F4A-945F-349AD098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FC9-8FB4-4F90-8BCA-DB4963F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C04-0B85-43BD-89F7-6F58474F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6BD-B607-4FAF-A1DF-1A948F0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48eb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48eb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48ebe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405F-312B-4355-A739-82D731CB80AA}" type="slidenum">
              <a:rPr b="0" lang="en-US" sz="1200" spc="-1" strike="noStrike">
                <a:solidFill>
                  <a:srgbClr val="a48eb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1196640"/>
            <a:ext cx="77007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34164a"/>
                </a:solidFill>
                <a:latin typeface="Bookman Old Style"/>
              </a:rPr>
              <a:t>«Профилактика правонарушений и преступлений среди несовершеннолетних» </a:t>
            </a:r>
            <a:br>
              <a:rPr sz="3600"/>
            </a:br>
            <a:r>
              <a:rPr b="1" lang="ru-RU" sz="3600" spc="-1" strike="noStrike">
                <a:solidFill>
                  <a:srgbClr val="34164a"/>
                </a:solidFill>
                <a:latin typeface="Bookman Old Style"/>
              </a:rPr>
              <a:t>в МОБУ Верхнеуринская сош</a:t>
            </a:r>
            <a:br>
              <a:rPr sz="3200"/>
            </a:br>
            <a:br>
              <a:rPr sz="5900"/>
            </a:b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Занятость учащихся в системе дополнительного образования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00000" y="1628640"/>
          <a:ext cx="6769080" cy="4021200"/>
        </p:xfrm>
        <a:graphic>
          <a:graphicData uri="http://schemas.openxmlformats.org/drawingml/2006/table">
            <a:tbl>
              <a:tblPr/>
              <a:tblGrid>
                <a:gridCol w="3484800"/>
                <a:gridCol w="1323720"/>
                <a:gridCol w="196056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2011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2012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СОП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90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0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ПДН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97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0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КДН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0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0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ВШК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92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0%</a:t>
                      </a:r>
                      <a:endParaRPr b="0" lang="en-US" sz="32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15560"/>
            <a:ext cx="8207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164a"/>
                </a:solidFill>
                <a:latin typeface="Comic Sans MS"/>
              </a:rPr>
              <a:t>Динамика правонарушений среди учащихся школы  2011-2012 г.г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graphicFrame>
        <p:nvGraphicFramePr>
          <p:cNvPr id="190" name="Object 5"/>
          <p:cNvGraphicFramePr/>
          <p:nvPr/>
        </p:nvGraphicFramePr>
        <p:xfrm>
          <a:off x="393840" y="1198440"/>
          <a:ext cx="8354880" cy="547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198440"/>
                    <a:ext cx="835488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77156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68360" y="-12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94" name="Picture 5" descr="DSCN2432"/>
          <p:cNvPicPr/>
          <p:nvPr/>
        </p:nvPicPr>
        <p:blipFill>
          <a:blip r:embed="rId2"/>
          <a:stretch/>
        </p:blipFill>
        <p:spPr>
          <a:xfrm>
            <a:off x="4067280" y="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SCN0762"/>
          <p:cNvPicPr/>
          <p:nvPr/>
        </p:nvPicPr>
        <p:blipFill>
          <a:blip r:embed="rId3"/>
          <a:stretch/>
        </p:blipFill>
        <p:spPr>
          <a:xfrm>
            <a:off x="0" y="3373560"/>
            <a:ext cx="4643280" cy="348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DSCN0564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DSCN1038"/>
          <p:cNvPicPr/>
          <p:nvPr/>
        </p:nvPicPr>
        <p:blipFill>
          <a:blip r:embed="rId5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DSCN2907"/>
          <p:cNvPicPr/>
          <p:nvPr/>
        </p:nvPicPr>
        <p:blipFill>
          <a:blip r:embed="rId6"/>
          <a:stretch/>
        </p:blipFill>
        <p:spPr>
          <a:xfrm>
            <a:off x="2987640" y="1898640"/>
            <a:ext cx="32558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01" name="Picture 4" descr="DSCN0828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SCN0841"/>
          <p:cNvPicPr/>
          <p:nvPr/>
        </p:nvPicPr>
        <p:blipFill>
          <a:blip r:embed="rId3"/>
          <a:stretch/>
        </p:blipFill>
        <p:spPr>
          <a:xfrm>
            <a:off x="0" y="315756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SCN1058"/>
          <p:cNvPicPr/>
          <p:nvPr/>
        </p:nvPicPr>
        <p:blipFill>
          <a:blip r:embed="rId4"/>
          <a:stretch/>
        </p:blipFill>
        <p:spPr>
          <a:xfrm>
            <a:off x="0" y="0"/>
            <a:ext cx="5292720" cy="3808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DSCN0077"/>
          <p:cNvPicPr/>
          <p:nvPr/>
        </p:nvPicPr>
        <p:blipFill>
          <a:blip r:embed="rId5"/>
          <a:stretch/>
        </p:blipFill>
        <p:spPr>
          <a:xfrm>
            <a:off x="4859280" y="3643200"/>
            <a:ext cx="4284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07" name="Picture 4" descr="DSCN3305"/>
          <p:cNvPicPr/>
          <p:nvPr/>
        </p:nvPicPr>
        <p:blipFill>
          <a:blip r:embed="rId2"/>
          <a:stretch/>
        </p:blipFill>
        <p:spPr>
          <a:xfrm>
            <a:off x="4140360" y="0"/>
            <a:ext cx="4838400" cy="362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DSCN3136"/>
          <p:cNvPicPr/>
          <p:nvPr/>
        </p:nvPicPr>
        <p:blipFill>
          <a:blip r:embed="rId3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PIC_6937"/>
          <p:cNvPicPr/>
          <p:nvPr/>
        </p:nvPicPr>
        <p:blipFill>
          <a:blip r:embed="rId4"/>
          <a:stretch/>
        </p:blipFill>
        <p:spPr>
          <a:xfrm>
            <a:off x="4356000" y="3265560"/>
            <a:ext cx="4788000" cy="359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IMG_6719"/>
          <p:cNvPicPr/>
          <p:nvPr/>
        </p:nvPicPr>
        <p:blipFill>
          <a:blip r:embed="rId5"/>
          <a:stretch/>
        </p:blipFill>
        <p:spPr>
          <a:xfrm>
            <a:off x="0" y="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13" name="Picture 4" descr="DSC03094"/>
          <p:cNvPicPr/>
          <p:nvPr/>
        </p:nvPicPr>
        <p:blipFill>
          <a:blip r:embed="rId2"/>
          <a:stretch/>
        </p:blipFill>
        <p:spPr>
          <a:xfrm>
            <a:off x="4896000" y="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DSC03114"/>
          <p:cNvPicPr/>
          <p:nvPr/>
        </p:nvPicPr>
        <p:blipFill>
          <a:blip r:embed="rId3"/>
          <a:stretch/>
        </p:blipFill>
        <p:spPr>
          <a:xfrm>
            <a:off x="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DSC03096"/>
          <p:cNvPicPr/>
          <p:nvPr/>
        </p:nvPicPr>
        <p:blipFill>
          <a:blip r:embed="rId4"/>
          <a:stretch/>
        </p:blipFill>
        <p:spPr>
          <a:xfrm>
            <a:off x="4284720" y="314172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Фото0606"/>
          <p:cNvPicPr/>
          <p:nvPr/>
        </p:nvPicPr>
        <p:blipFill>
          <a:blip r:embed="rId5"/>
          <a:stretch/>
        </p:blipFill>
        <p:spPr>
          <a:xfrm>
            <a:off x="0" y="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219" name="Picture 4" descr="DSCN1211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DSCN1210"/>
          <p:cNvPicPr/>
          <p:nvPr/>
        </p:nvPicPr>
        <p:blipFill>
          <a:blip r:embed="rId3"/>
          <a:stretch/>
        </p:blipFill>
        <p:spPr>
          <a:xfrm>
            <a:off x="0" y="345456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DSCN1209"/>
          <p:cNvPicPr/>
          <p:nvPr/>
        </p:nvPicPr>
        <p:blipFill>
          <a:blip r:embed="rId4"/>
          <a:stretch/>
        </p:blipFill>
        <p:spPr>
          <a:xfrm>
            <a:off x="4427640" y="350028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SCN0606"/>
          <p:cNvPicPr/>
          <p:nvPr/>
        </p:nvPicPr>
        <p:blipFill>
          <a:blip r:embed="rId5"/>
          <a:stretch/>
        </p:blipFill>
        <p:spPr>
          <a:xfrm>
            <a:off x="0" y="0"/>
            <a:ext cx="3059280" cy="2631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SAM_0014"/>
          <p:cNvPicPr/>
          <p:nvPr/>
        </p:nvPicPr>
        <p:blipFill>
          <a:blip r:embed="rId6"/>
          <a:stretch/>
        </p:blipFill>
        <p:spPr>
          <a:xfrm>
            <a:off x="1258920" y="1413000"/>
            <a:ext cx="266544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3"/>
          <p:cNvSpPr/>
          <p:nvPr/>
        </p:nvSpPr>
        <p:spPr>
          <a:xfrm>
            <a:off x="395280" y="4292640"/>
            <a:ext cx="8352000" cy="461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395280" y="1355760"/>
            <a:ext cx="8352000" cy="461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95280" y="3165480"/>
            <a:ext cx="8352000" cy="461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7" name="Заголовок 4"/>
          <p:cNvSpPr/>
          <p:nvPr/>
        </p:nvSpPr>
        <p:spPr>
          <a:xfrm>
            <a:off x="468360" y="33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лавная цель воспитания – </a:t>
            </a: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частливый человек.</a:t>
            </a: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                                                                        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В.А. Караковский</a:t>
            </a: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0" y="5059440"/>
            <a:ext cx="1979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826920" y="333360"/>
            <a:ext cx="727416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164a"/>
                </a:solidFill>
                <a:latin typeface="Bookman Old Style"/>
              </a:rPr>
              <a:t>МОБУ Верхнеуринская сош</a:t>
            </a:r>
            <a:br>
              <a:rPr sz="1800"/>
            </a:br>
            <a:r>
              <a:rPr b="1" lang="ru-RU" sz="4000" spc="-1" strike="noStrike">
                <a:solidFill>
                  <a:srgbClr val="34164a"/>
                </a:solidFill>
                <a:latin typeface="Bookman Old Style"/>
              </a:rPr>
              <a:t>Программа</a:t>
            </a:r>
            <a:br>
              <a:rPr sz="4000"/>
            </a:br>
            <a:r>
              <a:rPr b="1" lang="ru-RU" sz="4000" spc="-1" strike="noStrike">
                <a:solidFill>
                  <a:srgbClr val="34164a"/>
                </a:solidFill>
                <a:latin typeface="Bookman Old Style"/>
              </a:rPr>
              <a:t>профилактики правонарушений и преступлений</a:t>
            </a: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4164a"/>
                </a:solidFill>
                <a:latin typeface="Bookman Old Style"/>
              </a:rPr>
              <a:t>«Будущее </a:t>
            </a:r>
            <a:endParaRPr b="0" lang="en-US" sz="60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4164a"/>
                </a:solidFill>
                <a:latin typeface="Bookman Old Style"/>
              </a:rPr>
              <a:t>для всех!»</a:t>
            </a:r>
            <a:r>
              <a:rPr b="1" lang="ru-RU" sz="6000" spc="-1" strike="noStrike">
                <a:solidFill>
                  <a:srgbClr val="34164a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164a"/>
                </a:solidFill>
                <a:latin typeface="Bookman Old Style"/>
              </a:rPr>
              <a:t>    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164a"/>
                </a:solidFill>
                <a:latin typeface="Bookman Old Style"/>
              </a:rPr>
              <a:t>срок реализации:2011-2014г.г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5280" y="476280"/>
          <a:ext cx="8137440" cy="4896000"/>
        </p:xfrm>
        <a:graphic>
          <a:graphicData uri="http://schemas.openxmlformats.org/drawingml/2006/table">
            <a:tbl>
              <a:tblPr/>
              <a:tblGrid>
                <a:gridCol w="2184480"/>
                <a:gridCol w="1811160"/>
                <a:gridCol w="2106720"/>
                <a:gridCol w="203508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2011год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Начало 2012год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Конец 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2012 года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Всего учащихся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8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СОП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КДН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ПДН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Учащиеся ВШК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Всего семей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Семьи  СОП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1.Конвенция ООН о правах ребенка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2.Декларация прав ребенка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3.Семейный Кодекс Российской федерации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4.Закон РФ «Об основах системы профилактики безнадзорности и правонарушений несовершеннолетних» №120 от 24.06.1999 г.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5.КЦП «Комплексные меры по преодолению распространения наркомании, пьянства и алкоголизма в Красноярском крае»,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6.КЦП «Профилактика правонарушений в Красноярском крае».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7. Положение о Совете профилактики в ОУ.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Bookman Old Style"/>
              </a:rPr>
              <a:t>8. Решения Совета профилактики  ОУ.</a:t>
            </a:r>
            <a:endParaRPr b="0" lang="en-US" sz="24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Нормативно-правовая база</a:t>
            </a:r>
            <a:endParaRPr b="0" lang="en-US" sz="40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4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          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Создание условий для предотвращения факторов риска детского неблагополучия; построение и реализация моделей комплексного сопровождения детей «группы риска» на основе партнерского взаимодействия  общества и всех субъектов системы профилактики.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164a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22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1.Выявлять проблемное поле ребенка и его семьи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2.Создать условия для правового воспитания и правовой защиты учащихся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3. Повышать уровень воспитательно-профилактической работы с учащимися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4. Развивать творческие способности и социальную активность школьников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1280"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5. Снизить количество учащихся, поставленных на учет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4164a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Структура деятельности школы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          </a:t>
            </a:r>
            <a:endParaRPr b="0" lang="en-US" sz="32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170" name="Прямоугольник 1" descr=""/>
          <p:cNvPicPr/>
          <p:nvPr/>
        </p:nvPicPr>
        <p:blipFill>
          <a:blip r:embed="rId2"/>
          <a:stretch/>
        </p:blipFill>
        <p:spPr>
          <a:xfrm>
            <a:off x="3193920" y="1620720"/>
            <a:ext cx="2646360" cy="1231920"/>
          </a:xfrm>
          <a:prstGeom prst="rect">
            <a:avLst/>
          </a:prstGeom>
          <a:ln w="0">
            <a:noFill/>
          </a:ln>
        </p:spPr>
      </p:pic>
      <p:sp>
        <p:nvSpPr>
          <p:cNvPr id="171" name="Стрелка вниз 2"/>
          <p:cNvSpPr/>
          <p:nvPr/>
        </p:nvSpPr>
        <p:spPr>
          <a:xfrm rot="13543800">
            <a:off x="1996560" y="2466720"/>
            <a:ext cx="1341720" cy="3763800"/>
          </a:xfrm>
          <a:prstGeom prst="downArrow">
            <a:avLst>
              <a:gd name="adj1" fmla="val 39944"/>
              <a:gd name="adj2" fmla="val 106390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Стрелка вниз 3"/>
          <p:cNvSpPr/>
          <p:nvPr/>
        </p:nvSpPr>
        <p:spPr>
          <a:xfrm rot="10800000">
            <a:off x="3564000" y="3284640"/>
            <a:ext cx="1944720" cy="3085920"/>
          </a:xfrm>
          <a:prstGeom prst="downArrow">
            <a:avLst>
              <a:gd name="adj1" fmla="val 50000"/>
              <a:gd name="adj2" fmla="val 5925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Стрелка вниз 4"/>
          <p:cNvSpPr/>
          <p:nvPr/>
        </p:nvSpPr>
        <p:spPr>
          <a:xfrm rot="8575800">
            <a:off x="6135120" y="2760480"/>
            <a:ext cx="1011240" cy="3052440"/>
          </a:xfrm>
          <a:prstGeom prst="downArrow">
            <a:avLst>
              <a:gd name="adj1" fmla="val 58500"/>
              <a:gd name="adj2" fmla="val 10648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Стрелка вниз 5"/>
          <p:cNvSpPr/>
          <p:nvPr/>
        </p:nvSpPr>
        <p:spPr>
          <a:xfrm rot="6403800">
            <a:off x="6954120" y="1045800"/>
            <a:ext cx="1492200" cy="3232440"/>
          </a:xfrm>
          <a:prstGeom prst="downArrow">
            <a:avLst>
              <a:gd name="adj1" fmla="val 52296"/>
              <a:gd name="adj2" fmla="val 59431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5" name="Стрелка вниз 7"/>
          <p:cNvSpPr/>
          <p:nvPr/>
        </p:nvSpPr>
        <p:spPr>
          <a:xfrm rot="15019800">
            <a:off x="514080" y="1330200"/>
            <a:ext cx="2211480" cy="3240000"/>
          </a:xfrm>
          <a:prstGeom prst="downArrow">
            <a:avLst>
              <a:gd name="adj1" fmla="val 38296"/>
              <a:gd name="adj2" fmla="val 46252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 rot="1316400">
            <a:off x="6812280" y="2274840"/>
            <a:ext cx="19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Р Д Д Т</a:t>
            </a: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2899200">
            <a:off x="6027480" y="406224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Bookman Old Style"/>
              </a:rPr>
              <a:t>К Д Н</a:t>
            </a:r>
            <a:endParaRPr b="0" lang="en-US" sz="40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192560" y="4022640"/>
            <a:ext cx="66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П 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Д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Н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 rot="2728800">
            <a:off x="2030040" y="3490920"/>
            <a:ext cx="37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С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Е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М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Ь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Я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 rot="4041600">
            <a:off x="997200" y="1594080"/>
            <a:ext cx="47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И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Б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164a"/>
                </a:solidFill>
                <a:latin typeface="Comic Sans MS"/>
              </a:rPr>
              <a:t>Условия эффективной работы по профилактике безнадзорности и правонарушений школьников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Успешность обучающихся в учебной деятельности;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Обеспечение их психологической защищенности;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Развитие эмоционально-позитивной системы отношений со сверстниками, родителями, учителями;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Bookman Old Style"/>
              </a:rPr>
              <a:t>Создание благоприятных условий для развития и самореализации школьников.</a:t>
            </a: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Bookman Old Style"/>
              </a:rPr>
              <a:t>Работа с родителями </a:t>
            </a:r>
            <a:endParaRPr b="0" lang="en-US" sz="4400" spc="-1" strike="noStrike">
              <a:solidFill>
                <a:srgbClr val="7030a0"/>
              </a:solidFill>
              <a:latin typeface="Calibri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052640"/>
          <a:ext cx="8424720" cy="5592600"/>
        </p:xfrm>
        <a:graphic>
          <a:graphicData uri="http://schemas.openxmlformats.org/drawingml/2006/table">
            <a:tbl>
              <a:tblPr/>
              <a:tblGrid>
                <a:gridCol w="4633920"/>
                <a:gridCol w="1952640"/>
                <a:gridCol w="18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Наименования мероприятий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2011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 Old Style"/>
                          <a:ea typeface="Arial"/>
                        </a:rPr>
                        <a:t>2012</a:t>
                      </a:r>
                      <a:endParaRPr b="0" lang="en-US" sz="24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Общешкольное родительское собрание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Беседы с проблемными семьями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Сотрудничество с КДН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2раза в четверть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Сотрудничество с ПДН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раз в четверть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раз в месяц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Консультации  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0a0"/>
                          </a:solidFill>
                          <a:latin typeface="Bookman Old Style"/>
                          <a:ea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6:21:29Z</dcterms:created>
  <dc:creator>Наталия</dc:creator>
  <dc:description/>
  <dc:language>en-US</dc:language>
  <cp:lastModifiedBy>Пользователь</cp:lastModifiedBy>
  <dcterms:modified xsi:type="dcterms:W3CDTF">2013-01-14T07:22:31Z</dcterms:modified>
  <cp:revision>93</cp:revision>
  <dc:subject/>
  <dc:title>Слайд 1</dc:title>
</cp:coreProperties>
</file>