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B33-5A0A-4DBD-B983-B3541E0D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4A8-BB8A-466D-B1B4-E1BF9681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885-8093-470E-ACF6-58F5BB4E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F43-1176-40D1-B1FB-59C9CE34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BDE6-BDD3-49F9-AE91-3DEF265D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2EEA-1132-436A-B8CF-7263080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1258-5786-4AAD-9644-A73494C3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68F-BD57-45BF-8278-BF6CD21B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FA42-CADC-4526-9B1B-61479980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68B1-752D-4928-BC40-F865DB6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7BB2-3467-4200-8892-F7FECB6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971-FD7D-4972-BEEF-771BF5A1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29DB-7769-4475-B800-3DC5FB5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269E-0EFE-479A-9753-5075501D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4309-56A5-48E6-943A-74DB3D7D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DFFA-C2FA-48D2-81C7-A942A39A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2537-FBA0-4A0D-B42B-B8DBF2BE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72B-72D7-462A-B500-135560B8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07CE-0492-4C8C-896C-370021AA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54F-31B1-4A7D-B495-D9A7AC86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E7D0-9581-40BD-878C-FC7AD1C0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392-42D3-4CFE-8951-720403C3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DC1-C7CF-4B96-ACCF-9883B809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073-4D92-4F15-B029-329C96C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31CE-244B-4C9F-BED3-0183C5E95D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B518-6DEE-4C80-A1DF-BA73A23191A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Система работы образования  Ирбейского района по профилактике безнадзорности и правонарушений несовершеннолетних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в 2012  году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Система дополнительног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образования ОУ муниципалите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112536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82600" y="2017800"/>
          <a:ext cx="7772400" cy="277344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  <a:gridCol w="129528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 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ж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руж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 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ое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ое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о- биолог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о- биолог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ско-краевед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ско-краевед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 твор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 твор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943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Занятость несовершеннолетних, находящихся в трудной жизненной ситуации , состоящих на учете, находящихся в социально-опасном положении в системе ДО школ и учреждений дополнительного образования детей 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27734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 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ж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руж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ое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о- биологи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ско-краеведческ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е  твор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50920" y="112536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2017800"/>
          <a:ext cx="7812000" cy="3768480"/>
        </p:xfrm>
        <a:graphic>
          <a:graphicData uri="http://schemas.openxmlformats.org/drawingml/2006/table">
            <a:tbl>
              <a:tblPr/>
              <a:tblGrid>
                <a:gridCol w="1952640"/>
                <a:gridCol w="1952640"/>
                <a:gridCol w="1954080"/>
                <a:gridCol w="1952640"/>
              </a:tblGrid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дено/охвачено в 17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66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о сем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09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ней профилактики» совместно с подразделением по делам несовершеннолет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6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их собраний правовой тема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й Совета Профилакти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1722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Количество рейдов  педагогов ОУ совместно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  <a:ea typeface="Times New Roman"/>
              </a:rPr>
              <a:t>с органами внутренних дел, инспекцией по делам несовершеннолетних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ежведомственное взаимодействие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50920" y="112536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11280" y="234936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95280" y="1844640"/>
            <a:ext cx="1763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правление образования Ирбейского района взаимодействуе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 органами исполнительной и представительной  власти муниципального уровн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 вышестоящими ведомственными органам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инистерство образования и науки Красноярского кра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нститут повышения квалификации педагогических работ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 межведомственными комиссиям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униципальная комиссия по делам несовершеннолетних и защите их пра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униципальная комиссия по организации отдыха, оздоровления и занятости детей в каникулярное врем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 средствами массовой информации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1:34:20Z</dcterms:created>
  <dc:creator>О.В.Мандрусяк</dc:creator>
  <dc:description/>
  <dc:language>en-US</dc:language>
  <cp:lastModifiedBy>Пользователь</cp:lastModifiedBy>
  <dcterms:modified xsi:type="dcterms:W3CDTF">2013-01-14T01:25:09Z</dcterms:modified>
  <cp:revision>53</cp:revision>
  <dc:subject/>
  <dc:title>Анализ работы учреждений образования за 2007-2008 учебный год.</dc:title>
</cp:coreProperties>
</file>